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 id="360" r:id="rId263"/>
    <p:sldId id="361" r:id="rId264"/>
    <p:sldId id="362" r:id="rId265"/>
    <p:sldId id="363" r:id="rId266"/>
    <p:sldId id="364" r:id="rId267"/>
    <p:sldId id="365" r:id="rId268"/>
    <p:sldId id="366" r:id="rId269"/>
    <p:sldId id="367" r:id="rId270"/>
    <p:sldId id="368" r:id="rId271"/>
    <p:sldId id="369" r:id="rId272"/>
    <p:sldId id="370" r:id="rId273"/>
    <p:sldId id="371" r:id="rId274"/>
    <p:sldId id="372" r:id="rId275"/>
    <p:sldId id="373" r:id="rId276"/>
    <p:sldId id="374" r:id="rId277"/>
    <p:sldId id="375" r:id="rId27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slide" Target="slides/slide105.xml"/><Relationship Id="rId264" Type="http://schemas.openxmlformats.org/officeDocument/2006/relationships/slide" Target="slides/slide106.xml"/><Relationship Id="rId265" Type="http://schemas.openxmlformats.org/officeDocument/2006/relationships/slide" Target="slides/slide107.xml"/><Relationship Id="rId266" Type="http://schemas.openxmlformats.org/officeDocument/2006/relationships/slide" Target="slides/slide108.xml"/><Relationship Id="rId267" Type="http://schemas.openxmlformats.org/officeDocument/2006/relationships/slide" Target="slides/slide109.xml"/><Relationship Id="rId268" Type="http://schemas.openxmlformats.org/officeDocument/2006/relationships/slide" Target="slides/slide110.xml"/><Relationship Id="rId269" Type="http://schemas.openxmlformats.org/officeDocument/2006/relationships/slide" Target="slides/slide111.xml"/><Relationship Id="rId270" Type="http://schemas.openxmlformats.org/officeDocument/2006/relationships/slide" Target="slides/slide112.xml"/><Relationship Id="rId271" Type="http://schemas.openxmlformats.org/officeDocument/2006/relationships/slide" Target="slides/slide113.xml"/><Relationship Id="rId272" Type="http://schemas.openxmlformats.org/officeDocument/2006/relationships/slide" Target="slides/slide114.xml"/><Relationship Id="rId273" Type="http://schemas.openxmlformats.org/officeDocument/2006/relationships/slide" Target="slides/slide115.xml"/><Relationship Id="rId274" Type="http://schemas.openxmlformats.org/officeDocument/2006/relationships/slide" Target="slides/slide116.xml"/><Relationship Id="rId275" Type="http://schemas.openxmlformats.org/officeDocument/2006/relationships/slide" Target="slides/slide117.xml"/><Relationship Id="rId276" Type="http://schemas.openxmlformats.org/officeDocument/2006/relationships/slide" Target="slides/slide118.xml"/><Relationship Id="rId277" Type="http://schemas.openxmlformats.org/officeDocument/2006/relationships/slide" Target="slides/slide119.xml"/><Relationship Id="rId278" Type="http://schemas.openxmlformats.org/officeDocument/2006/relationships/slide" Target="slides/slide120.xml"/><Relationship Id="rId2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C00A0-B466-4F54-9E56-E7F60B0E614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0AE4D-0BBD-4305-B372-1D4B333426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0" name="PlaceHolder 1"/>
          <p:cNvSpPr>
            <a:spLocks noGrp="1"/>
          </p:cNvSpPr>
          <p:nvPr>
            <p:ph type="sldImg"/>
          </p:nvPr>
        </p:nvSpPr>
        <p:spPr>
          <a:xfrm>
            <a:off x="985680" y="733320"/>
            <a:ext cx="4886640" cy="3665520"/>
          </a:xfrm>
          <a:prstGeom prst="rect">
            <a:avLst/>
          </a:prstGeom>
          <a:ln w="0">
            <a:noFill/>
          </a:ln>
        </p:spPr>
      </p:sp>
      <p:sp>
        <p:nvSpPr>
          <p:cNvPr id="747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4D5EA-8EBF-448C-869A-459BC353AB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CB5B4-CA37-4EAB-AE77-DADF251D99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6" name="PlaceHolder 1"/>
          <p:cNvSpPr>
            <a:spLocks noGrp="1"/>
          </p:cNvSpPr>
          <p:nvPr>
            <p:ph type="sldImg"/>
          </p:nvPr>
        </p:nvSpPr>
        <p:spPr>
          <a:xfrm>
            <a:off x="985680" y="741240"/>
            <a:ext cx="4886640" cy="3665520"/>
          </a:xfrm>
          <a:prstGeom prst="rect">
            <a:avLst/>
          </a:prstGeom>
          <a:ln w="0">
            <a:noFill/>
          </a:ln>
        </p:spPr>
      </p:sp>
      <p:sp>
        <p:nvSpPr>
          <p:cNvPr id="7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0BAFD-B1B8-42D4-8BB6-08C4544C3E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83323-EBC0-4E8B-BB00-35C8B611E4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6" name="PlaceHolder 1"/>
          <p:cNvSpPr>
            <a:spLocks noGrp="1"/>
          </p:cNvSpPr>
          <p:nvPr>
            <p:ph type="sldImg"/>
          </p:nvPr>
        </p:nvSpPr>
        <p:spPr>
          <a:xfrm>
            <a:off x="985680" y="741240"/>
            <a:ext cx="4886640" cy="3665520"/>
          </a:xfrm>
          <a:prstGeom prst="rect">
            <a:avLst/>
          </a:prstGeom>
          <a:ln w="0">
            <a:noFill/>
          </a:ln>
        </p:spPr>
      </p:sp>
      <p:sp>
        <p:nvSpPr>
          <p:cNvPr id="7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E90F2-612C-43D0-93E4-2A3B665F4D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03FE6-D8B9-4CCE-8447-A0C7A0FA9A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0" name="PlaceHolder 1"/>
          <p:cNvSpPr>
            <a:spLocks noGrp="1"/>
          </p:cNvSpPr>
          <p:nvPr>
            <p:ph type="sldImg"/>
          </p:nvPr>
        </p:nvSpPr>
        <p:spPr>
          <a:xfrm>
            <a:off x="985680" y="741240"/>
            <a:ext cx="4886640" cy="3665520"/>
          </a:xfrm>
          <a:prstGeom prst="rect">
            <a:avLst/>
          </a:prstGeom>
          <a:ln w="0">
            <a:noFill/>
          </a:ln>
        </p:spPr>
      </p:sp>
      <p:sp>
        <p:nvSpPr>
          <p:cNvPr id="7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D11DB-55D8-4C99-8AC8-EA72092C93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DE60B-351E-4BA1-A727-D9EC145085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4" name="PlaceHolder 1"/>
          <p:cNvSpPr>
            <a:spLocks noGrp="1"/>
          </p:cNvSpPr>
          <p:nvPr>
            <p:ph type="sldImg"/>
          </p:nvPr>
        </p:nvSpPr>
        <p:spPr>
          <a:xfrm>
            <a:off x="985680" y="741240"/>
            <a:ext cx="4886640" cy="3665520"/>
          </a:xfrm>
          <a:prstGeom prst="rect">
            <a:avLst/>
          </a:prstGeom>
          <a:ln w="0">
            <a:noFill/>
          </a:ln>
        </p:spPr>
      </p:sp>
      <p:sp>
        <p:nvSpPr>
          <p:cNvPr id="7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C2BFD-41A0-4A99-996E-9F5662289B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D6832-EDD6-4ACE-954D-CFD8A9CE6D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8" name="PlaceHolder 1"/>
          <p:cNvSpPr>
            <a:spLocks noGrp="1"/>
          </p:cNvSpPr>
          <p:nvPr>
            <p:ph type="sldImg"/>
          </p:nvPr>
        </p:nvSpPr>
        <p:spPr>
          <a:xfrm>
            <a:off x="985680" y="741240"/>
            <a:ext cx="4886640" cy="3665520"/>
          </a:xfrm>
          <a:prstGeom prst="rect">
            <a:avLst/>
          </a:prstGeom>
          <a:ln w="0">
            <a:noFill/>
          </a:ln>
        </p:spPr>
      </p:sp>
      <p:sp>
        <p:nvSpPr>
          <p:cNvPr id="7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16A28-5C37-409F-99D7-C76D02B8B73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C106E-F1F5-4892-A321-458E79F4C9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2" name="PlaceHolder 1"/>
          <p:cNvSpPr>
            <a:spLocks noGrp="1"/>
          </p:cNvSpPr>
          <p:nvPr>
            <p:ph type="sldImg"/>
          </p:nvPr>
        </p:nvSpPr>
        <p:spPr>
          <a:xfrm>
            <a:off x="985680" y="741240"/>
            <a:ext cx="4886640" cy="3665520"/>
          </a:xfrm>
          <a:prstGeom prst="rect">
            <a:avLst/>
          </a:prstGeom>
          <a:ln w="0">
            <a:noFill/>
          </a:ln>
        </p:spPr>
      </p:sp>
      <p:sp>
        <p:nvSpPr>
          <p:cNvPr id="7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A14CB-6D8E-46F6-9F40-985535F235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4646F-F278-4FF9-A42D-78377BD93F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6" name="PlaceHolder 1"/>
          <p:cNvSpPr>
            <a:spLocks noGrp="1"/>
          </p:cNvSpPr>
          <p:nvPr>
            <p:ph type="sldImg"/>
          </p:nvPr>
        </p:nvSpPr>
        <p:spPr>
          <a:xfrm>
            <a:off x="985680" y="741240"/>
            <a:ext cx="4886640" cy="3665520"/>
          </a:xfrm>
          <a:prstGeom prst="rect">
            <a:avLst/>
          </a:prstGeom>
          <a:ln w="0">
            <a:noFill/>
          </a:ln>
        </p:spPr>
      </p:sp>
      <p:sp>
        <p:nvSpPr>
          <p:cNvPr id="7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AE6C3-AE19-48F0-AF7C-A3690AD6FB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C0C75-659B-442E-BF4B-920FDF9A28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0" name="PlaceHolder 1"/>
          <p:cNvSpPr>
            <a:spLocks noGrp="1"/>
          </p:cNvSpPr>
          <p:nvPr>
            <p:ph type="sldImg"/>
          </p:nvPr>
        </p:nvSpPr>
        <p:spPr>
          <a:xfrm>
            <a:off x="985680" y="741240"/>
            <a:ext cx="4886640" cy="3665520"/>
          </a:xfrm>
          <a:prstGeom prst="rect">
            <a:avLst/>
          </a:prstGeom>
          <a:ln w="0">
            <a:noFill/>
          </a:ln>
        </p:spPr>
      </p:sp>
      <p:sp>
        <p:nvSpPr>
          <p:cNvPr id="7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DD223-B776-4A5F-B8BA-3C74F7F23C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2C52F-B7C0-4E92-8F8B-E486D704B6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4" name="PlaceHolder 1"/>
          <p:cNvSpPr>
            <a:spLocks noGrp="1"/>
          </p:cNvSpPr>
          <p:nvPr>
            <p:ph type="sldImg"/>
          </p:nvPr>
        </p:nvSpPr>
        <p:spPr>
          <a:xfrm>
            <a:off x="985680" y="741240"/>
            <a:ext cx="4886640" cy="3665520"/>
          </a:xfrm>
          <a:prstGeom prst="rect">
            <a:avLst/>
          </a:prstGeom>
          <a:ln w="0">
            <a:noFill/>
          </a:ln>
        </p:spPr>
      </p:sp>
      <p:sp>
        <p:nvSpPr>
          <p:cNvPr id="7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46EF8-CEB8-47F4-95CF-2928C3EC108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AADC0-DC16-417E-84FC-087802C508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8" name="PlaceHolder 1"/>
          <p:cNvSpPr>
            <a:spLocks noGrp="1"/>
          </p:cNvSpPr>
          <p:nvPr>
            <p:ph type="sldImg"/>
          </p:nvPr>
        </p:nvSpPr>
        <p:spPr>
          <a:xfrm>
            <a:off x="985680" y="741240"/>
            <a:ext cx="4886640" cy="3665520"/>
          </a:xfrm>
          <a:prstGeom prst="rect">
            <a:avLst/>
          </a:prstGeom>
          <a:ln w="0">
            <a:noFill/>
          </a:ln>
        </p:spPr>
      </p:sp>
      <p:sp>
        <p:nvSpPr>
          <p:cNvPr id="7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6C6DF-72E1-4FC9-A1E4-56F8B41EF0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ADC03-F798-4628-9EF8-0809CE37F9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2" name="PlaceHolder 1"/>
          <p:cNvSpPr>
            <a:spLocks noGrp="1"/>
          </p:cNvSpPr>
          <p:nvPr>
            <p:ph type="sldImg"/>
          </p:nvPr>
        </p:nvSpPr>
        <p:spPr>
          <a:xfrm>
            <a:off x="985680" y="741240"/>
            <a:ext cx="4886640" cy="3665520"/>
          </a:xfrm>
          <a:prstGeom prst="rect">
            <a:avLst/>
          </a:prstGeom>
          <a:ln w="0">
            <a:noFill/>
          </a:ln>
        </p:spPr>
      </p:sp>
      <p:sp>
        <p:nvSpPr>
          <p:cNvPr id="7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2D6F1-79C1-41EE-8181-BA2BCB9B4F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4ED76-187D-40A4-B6FC-1C5ABCB528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0" name="PlaceHolder 1"/>
          <p:cNvSpPr>
            <a:spLocks noGrp="1"/>
          </p:cNvSpPr>
          <p:nvPr>
            <p:ph type="sldImg"/>
          </p:nvPr>
        </p:nvSpPr>
        <p:spPr>
          <a:xfrm>
            <a:off x="985680" y="741240"/>
            <a:ext cx="4886640" cy="3665520"/>
          </a:xfrm>
          <a:prstGeom prst="rect">
            <a:avLst/>
          </a:prstGeom>
          <a:ln w="0">
            <a:noFill/>
          </a:ln>
        </p:spPr>
      </p:sp>
      <p:sp>
        <p:nvSpPr>
          <p:cNvPr id="7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CE67B-0402-413D-8098-8A0EF50845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4C475-EEAC-4253-A60F-3B6F61E4EE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6" name="PlaceHolder 1"/>
          <p:cNvSpPr>
            <a:spLocks noGrp="1"/>
          </p:cNvSpPr>
          <p:nvPr>
            <p:ph type="sldImg"/>
          </p:nvPr>
        </p:nvSpPr>
        <p:spPr>
          <a:xfrm>
            <a:off x="985680" y="741240"/>
            <a:ext cx="4886640" cy="3665520"/>
          </a:xfrm>
          <a:prstGeom prst="rect">
            <a:avLst/>
          </a:prstGeom>
          <a:ln w="0">
            <a:noFill/>
          </a:ln>
        </p:spPr>
      </p:sp>
      <p:sp>
        <p:nvSpPr>
          <p:cNvPr id="7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E932B-AE11-49EB-84A5-C2388F566F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6CB59-6290-4587-868E-AE65742260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0" name="PlaceHolder 1"/>
          <p:cNvSpPr>
            <a:spLocks noGrp="1"/>
          </p:cNvSpPr>
          <p:nvPr>
            <p:ph type="sldImg"/>
          </p:nvPr>
        </p:nvSpPr>
        <p:spPr>
          <a:xfrm>
            <a:off x="985680" y="741240"/>
            <a:ext cx="4886640" cy="3665520"/>
          </a:xfrm>
          <a:prstGeom prst="rect">
            <a:avLst/>
          </a:prstGeom>
          <a:ln w="0">
            <a:noFill/>
          </a:ln>
        </p:spPr>
      </p:sp>
      <p:sp>
        <p:nvSpPr>
          <p:cNvPr id="7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9A3B1-3430-4AEA-83B0-C4399D4D4F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FDE74-C0DF-40C8-99F2-1B9EEFA2F6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4" name="PlaceHolder 1"/>
          <p:cNvSpPr>
            <a:spLocks noGrp="1"/>
          </p:cNvSpPr>
          <p:nvPr>
            <p:ph type="sldImg"/>
          </p:nvPr>
        </p:nvSpPr>
        <p:spPr>
          <a:xfrm>
            <a:off x="985680" y="741240"/>
            <a:ext cx="4886640" cy="3665520"/>
          </a:xfrm>
          <a:prstGeom prst="rect">
            <a:avLst/>
          </a:prstGeom>
          <a:ln w="0">
            <a:noFill/>
          </a:ln>
        </p:spPr>
      </p:sp>
      <p:sp>
        <p:nvSpPr>
          <p:cNvPr id="7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BD7EA-6456-42F1-9F34-96DA8DD72D4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A6B84-8227-4105-9674-801E43F50F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8" name="PlaceHolder 1"/>
          <p:cNvSpPr>
            <a:spLocks noGrp="1"/>
          </p:cNvSpPr>
          <p:nvPr>
            <p:ph type="sldImg"/>
          </p:nvPr>
        </p:nvSpPr>
        <p:spPr>
          <a:xfrm>
            <a:off x="985680" y="741240"/>
            <a:ext cx="4886640" cy="3665520"/>
          </a:xfrm>
          <a:prstGeom prst="rect">
            <a:avLst/>
          </a:prstGeom>
          <a:ln w="0">
            <a:noFill/>
          </a:ln>
        </p:spPr>
      </p:sp>
      <p:sp>
        <p:nvSpPr>
          <p:cNvPr id="7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DC809-C26F-4F8D-99BB-18428964BC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4B3BC-732F-4707-8184-2184EBF734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2" name="PlaceHolder 1"/>
          <p:cNvSpPr>
            <a:spLocks noGrp="1"/>
          </p:cNvSpPr>
          <p:nvPr>
            <p:ph type="sldImg"/>
          </p:nvPr>
        </p:nvSpPr>
        <p:spPr>
          <a:xfrm>
            <a:off x="985680" y="741240"/>
            <a:ext cx="4886640" cy="3665520"/>
          </a:xfrm>
          <a:prstGeom prst="rect">
            <a:avLst/>
          </a:prstGeom>
          <a:ln w="0">
            <a:noFill/>
          </a:ln>
        </p:spPr>
      </p:sp>
      <p:sp>
        <p:nvSpPr>
          <p:cNvPr id="7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BF93F-8383-473A-A4F0-EB4851DB07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D9BF1-6D48-4FE2-B272-C0BBB3E7F73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6" name="PlaceHolder 1"/>
          <p:cNvSpPr>
            <a:spLocks noGrp="1"/>
          </p:cNvSpPr>
          <p:nvPr>
            <p:ph type="sldImg"/>
          </p:nvPr>
        </p:nvSpPr>
        <p:spPr>
          <a:xfrm>
            <a:off x="985680" y="741240"/>
            <a:ext cx="4886640" cy="3665520"/>
          </a:xfrm>
          <a:prstGeom prst="rect">
            <a:avLst/>
          </a:prstGeom>
          <a:ln w="0">
            <a:noFill/>
          </a:ln>
        </p:spPr>
      </p:sp>
      <p:sp>
        <p:nvSpPr>
          <p:cNvPr id="7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7938E-1BD0-444F-A8CD-AE2ADD250A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1FA76-CB35-47C0-AA6A-8878398B6F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0" name="PlaceHolder 1"/>
          <p:cNvSpPr>
            <a:spLocks noGrp="1"/>
          </p:cNvSpPr>
          <p:nvPr>
            <p:ph type="sldImg"/>
          </p:nvPr>
        </p:nvSpPr>
        <p:spPr>
          <a:xfrm>
            <a:off x="985680" y="741240"/>
            <a:ext cx="4886640" cy="3665520"/>
          </a:xfrm>
          <a:prstGeom prst="rect">
            <a:avLst/>
          </a:prstGeom>
          <a:ln w="0">
            <a:noFill/>
          </a:ln>
        </p:spPr>
      </p:sp>
      <p:sp>
        <p:nvSpPr>
          <p:cNvPr id="7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CB54E-6FFD-4690-A8D6-0BE5626AE8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1AD95-5C6E-43D7-B5B1-33084397FF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4" name="PlaceHolder 1"/>
          <p:cNvSpPr>
            <a:spLocks noGrp="1"/>
          </p:cNvSpPr>
          <p:nvPr>
            <p:ph type="sldImg"/>
          </p:nvPr>
        </p:nvSpPr>
        <p:spPr>
          <a:xfrm>
            <a:off x="985680" y="741240"/>
            <a:ext cx="4886640" cy="3665520"/>
          </a:xfrm>
          <a:prstGeom prst="rect">
            <a:avLst/>
          </a:prstGeom>
          <a:ln w="0">
            <a:noFill/>
          </a:ln>
        </p:spPr>
      </p:sp>
      <p:sp>
        <p:nvSpPr>
          <p:cNvPr id="7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C5C61-ED8C-4D66-8EF4-6D3F70110E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9BA08-22F1-4C98-AE18-1DC7923FBF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8" name="PlaceHolder 1"/>
          <p:cNvSpPr>
            <a:spLocks noGrp="1"/>
          </p:cNvSpPr>
          <p:nvPr>
            <p:ph type="sldImg"/>
          </p:nvPr>
        </p:nvSpPr>
        <p:spPr>
          <a:xfrm>
            <a:off x="985680" y="741240"/>
            <a:ext cx="4886640" cy="3665520"/>
          </a:xfrm>
          <a:prstGeom prst="rect">
            <a:avLst/>
          </a:prstGeom>
          <a:ln w="0">
            <a:noFill/>
          </a:ln>
        </p:spPr>
      </p:sp>
      <p:sp>
        <p:nvSpPr>
          <p:cNvPr id="7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19F48-BF1F-4B73-A3A7-97DAC7A444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690F6-729A-4EF8-8F76-5203490744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2" name="PlaceHolder 1"/>
          <p:cNvSpPr>
            <a:spLocks noGrp="1"/>
          </p:cNvSpPr>
          <p:nvPr>
            <p:ph type="sldImg"/>
          </p:nvPr>
        </p:nvSpPr>
        <p:spPr>
          <a:xfrm>
            <a:off x="985680" y="741240"/>
            <a:ext cx="4886640" cy="3665520"/>
          </a:xfrm>
          <a:prstGeom prst="rect">
            <a:avLst/>
          </a:prstGeom>
          <a:ln w="0">
            <a:noFill/>
          </a:ln>
        </p:spPr>
      </p:sp>
      <p:sp>
        <p:nvSpPr>
          <p:cNvPr id="7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92CD6-F5ED-46E1-B73F-F56CA4C7B8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9393A-4344-4AA0-A977-2C0BB69E74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4" name="PlaceHolder 1"/>
          <p:cNvSpPr>
            <a:spLocks noGrp="1"/>
          </p:cNvSpPr>
          <p:nvPr>
            <p:ph type="sldImg"/>
          </p:nvPr>
        </p:nvSpPr>
        <p:spPr>
          <a:xfrm>
            <a:off x="985680" y="741240"/>
            <a:ext cx="4886640" cy="3665520"/>
          </a:xfrm>
          <a:prstGeom prst="rect">
            <a:avLst/>
          </a:prstGeom>
          <a:ln w="0">
            <a:noFill/>
          </a:ln>
        </p:spPr>
      </p:sp>
      <p:sp>
        <p:nvSpPr>
          <p:cNvPr id="75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64243-81CC-40DF-AE76-52E3FDF635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5" name="PlaceHolder 1"/>
          <p:cNvSpPr>
            <a:spLocks noGrp="1"/>
          </p:cNvSpPr>
          <p:nvPr>
            <p:ph type="sldImg"/>
          </p:nvPr>
        </p:nvSpPr>
        <p:spPr>
          <a:xfrm>
            <a:off x="985680" y="733320"/>
            <a:ext cx="4886640" cy="3665520"/>
          </a:xfrm>
          <a:prstGeom prst="rect">
            <a:avLst/>
          </a:prstGeom>
          <a:ln w="0">
            <a:noFill/>
          </a:ln>
        </p:spPr>
      </p:sp>
      <p:sp>
        <p:nvSpPr>
          <p:cNvPr id="794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B8298-34DC-4B00-BD97-76CB8E4F88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04F9D-BFC9-4F12-B34A-97FFBC328D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8" name="PlaceHolder 1"/>
          <p:cNvSpPr>
            <a:spLocks noGrp="1"/>
          </p:cNvSpPr>
          <p:nvPr>
            <p:ph type="sldImg"/>
          </p:nvPr>
        </p:nvSpPr>
        <p:spPr>
          <a:xfrm>
            <a:off x="985680" y="741240"/>
            <a:ext cx="4886640" cy="3665520"/>
          </a:xfrm>
          <a:prstGeom prst="rect">
            <a:avLst/>
          </a:prstGeom>
          <a:ln w="0">
            <a:noFill/>
          </a:ln>
        </p:spPr>
      </p:sp>
      <p:sp>
        <p:nvSpPr>
          <p:cNvPr id="7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9CEAE-03B1-4A4B-92BA-E1AB1CFC49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B22AC-74D3-40F7-8647-566145070F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2" name="PlaceHolder 1"/>
          <p:cNvSpPr>
            <a:spLocks noGrp="1"/>
          </p:cNvSpPr>
          <p:nvPr>
            <p:ph type="sldImg"/>
          </p:nvPr>
        </p:nvSpPr>
        <p:spPr>
          <a:xfrm>
            <a:off x="985680" y="741240"/>
            <a:ext cx="4886640" cy="3665520"/>
          </a:xfrm>
          <a:prstGeom prst="rect">
            <a:avLst/>
          </a:prstGeom>
          <a:ln w="0">
            <a:noFill/>
          </a:ln>
        </p:spPr>
      </p:sp>
      <p:sp>
        <p:nvSpPr>
          <p:cNvPr id="75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C3D79-5003-4C48-A63F-B6AF7144E9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DCAA4-BCE8-4DB9-A071-7BA08D97E63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6" name="PlaceHolder 1"/>
          <p:cNvSpPr>
            <a:spLocks noGrp="1"/>
          </p:cNvSpPr>
          <p:nvPr>
            <p:ph type="sldImg"/>
          </p:nvPr>
        </p:nvSpPr>
        <p:spPr>
          <a:xfrm>
            <a:off x="985680" y="741240"/>
            <a:ext cx="4886640" cy="3665520"/>
          </a:xfrm>
          <a:prstGeom prst="rect">
            <a:avLst/>
          </a:prstGeom>
          <a:ln w="0">
            <a:noFill/>
          </a:ln>
        </p:spPr>
      </p:sp>
      <p:sp>
        <p:nvSpPr>
          <p:cNvPr id="75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6C68B-8DB0-48CA-B3D3-E9544C0FA7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1293E-6CA6-4833-B260-929BFA7BB3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0" name="PlaceHolder 1"/>
          <p:cNvSpPr>
            <a:spLocks noGrp="1"/>
          </p:cNvSpPr>
          <p:nvPr>
            <p:ph type="sldImg"/>
          </p:nvPr>
        </p:nvSpPr>
        <p:spPr>
          <a:xfrm>
            <a:off x="985680" y="741240"/>
            <a:ext cx="4886640" cy="3665520"/>
          </a:xfrm>
          <a:prstGeom prst="rect">
            <a:avLst/>
          </a:prstGeom>
          <a:ln w="0">
            <a:noFill/>
          </a:ln>
        </p:spPr>
      </p:sp>
      <p:sp>
        <p:nvSpPr>
          <p:cNvPr id="7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6F28B-A5D9-4F00-B4DB-BE72829D29A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91764-8450-4A81-B8C8-071B2D191E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4" name="PlaceHolder 1"/>
          <p:cNvSpPr>
            <a:spLocks noGrp="1"/>
          </p:cNvSpPr>
          <p:nvPr>
            <p:ph type="sldImg"/>
          </p:nvPr>
        </p:nvSpPr>
        <p:spPr>
          <a:xfrm>
            <a:off x="985680" y="741240"/>
            <a:ext cx="4886640" cy="3665520"/>
          </a:xfrm>
          <a:prstGeom prst="rect">
            <a:avLst/>
          </a:prstGeom>
          <a:ln w="0">
            <a:noFill/>
          </a:ln>
        </p:spPr>
      </p:sp>
      <p:sp>
        <p:nvSpPr>
          <p:cNvPr id="75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6B22B-5A45-42C4-AEFB-F34B2E7E83B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35C87-1C5C-4676-8373-6C6B94B7EE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8" name="PlaceHolder 1"/>
          <p:cNvSpPr>
            <a:spLocks noGrp="1"/>
          </p:cNvSpPr>
          <p:nvPr>
            <p:ph type="sldImg"/>
          </p:nvPr>
        </p:nvSpPr>
        <p:spPr>
          <a:xfrm>
            <a:off x="985680" y="741240"/>
            <a:ext cx="4886640" cy="3665520"/>
          </a:xfrm>
          <a:prstGeom prst="rect">
            <a:avLst/>
          </a:prstGeom>
          <a:ln w="0">
            <a:noFill/>
          </a:ln>
        </p:spPr>
      </p:sp>
      <p:sp>
        <p:nvSpPr>
          <p:cNvPr id="75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4D62F-BCA0-4A50-962C-CB52E02237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57DB1-98F9-4B63-AAA3-82E4068189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2" name="PlaceHolder 1"/>
          <p:cNvSpPr>
            <a:spLocks noGrp="1"/>
          </p:cNvSpPr>
          <p:nvPr>
            <p:ph type="sldImg"/>
          </p:nvPr>
        </p:nvSpPr>
        <p:spPr>
          <a:xfrm>
            <a:off x="985680" y="741240"/>
            <a:ext cx="4886640" cy="3665520"/>
          </a:xfrm>
          <a:prstGeom prst="rect">
            <a:avLst/>
          </a:prstGeom>
          <a:ln w="0">
            <a:noFill/>
          </a:ln>
        </p:spPr>
      </p:sp>
      <p:sp>
        <p:nvSpPr>
          <p:cNvPr id="7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69D30-30BA-43E7-92F4-1BC92F243E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5D26C-92B0-4F95-8D3D-A942A37143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4" name="PlaceHolder 1"/>
          <p:cNvSpPr>
            <a:spLocks noGrp="1"/>
          </p:cNvSpPr>
          <p:nvPr>
            <p:ph type="sldImg"/>
          </p:nvPr>
        </p:nvSpPr>
        <p:spPr>
          <a:xfrm>
            <a:off x="985680" y="741240"/>
            <a:ext cx="4886640" cy="3665520"/>
          </a:xfrm>
          <a:prstGeom prst="rect">
            <a:avLst/>
          </a:prstGeom>
          <a:ln w="0">
            <a:noFill/>
          </a:ln>
        </p:spPr>
      </p:sp>
      <p:sp>
        <p:nvSpPr>
          <p:cNvPr id="7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987C7-D846-46FD-8A72-F6420B585D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1E196-CE69-4FD6-ACF7-9640FEE257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6" name="PlaceHolder 1"/>
          <p:cNvSpPr>
            <a:spLocks noGrp="1"/>
          </p:cNvSpPr>
          <p:nvPr>
            <p:ph type="sldImg"/>
          </p:nvPr>
        </p:nvSpPr>
        <p:spPr>
          <a:xfrm>
            <a:off x="985680" y="741240"/>
            <a:ext cx="4886640" cy="3665520"/>
          </a:xfrm>
          <a:prstGeom prst="rect">
            <a:avLst/>
          </a:prstGeom>
          <a:ln w="0">
            <a:noFill/>
          </a:ln>
        </p:spPr>
      </p:sp>
      <p:sp>
        <p:nvSpPr>
          <p:cNvPr id="75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BE775-76CE-4780-857D-D4EEA694A9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88A97-D5F0-4ADB-809F-5A0F697FBB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0" name="PlaceHolder 1"/>
          <p:cNvSpPr>
            <a:spLocks noGrp="1"/>
          </p:cNvSpPr>
          <p:nvPr>
            <p:ph type="sldImg"/>
          </p:nvPr>
        </p:nvSpPr>
        <p:spPr>
          <a:xfrm>
            <a:off x="985680" y="741240"/>
            <a:ext cx="4886640" cy="3665520"/>
          </a:xfrm>
          <a:prstGeom prst="rect">
            <a:avLst/>
          </a:prstGeom>
          <a:ln w="0">
            <a:noFill/>
          </a:ln>
        </p:spPr>
      </p:sp>
      <p:sp>
        <p:nvSpPr>
          <p:cNvPr id="75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3915A-F4D7-448F-BFB5-4A88343A8F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4D4C2-CCAE-4A9D-9E81-CBAB20D5AC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4" name="PlaceHolder 1"/>
          <p:cNvSpPr>
            <a:spLocks noGrp="1"/>
          </p:cNvSpPr>
          <p:nvPr>
            <p:ph type="sldImg"/>
          </p:nvPr>
        </p:nvSpPr>
        <p:spPr>
          <a:xfrm>
            <a:off x="985680" y="741240"/>
            <a:ext cx="4886640" cy="3665520"/>
          </a:xfrm>
          <a:prstGeom prst="rect">
            <a:avLst/>
          </a:prstGeom>
          <a:ln w="0">
            <a:noFill/>
          </a:ln>
        </p:spPr>
      </p:sp>
      <p:sp>
        <p:nvSpPr>
          <p:cNvPr id="7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F388E-06F9-4546-95A3-A429D6BCC60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A9402-EE9A-4BA5-9F46-91FB4D1C5F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8" name="PlaceHolder 1"/>
          <p:cNvSpPr>
            <a:spLocks noGrp="1"/>
          </p:cNvSpPr>
          <p:nvPr>
            <p:ph type="sldImg"/>
          </p:nvPr>
        </p:nvSpPr>
        <p:spPr>
          <a:xfrm>
            <a:off x="985680" y="741240"/>
            <a:ext cx="4886640" cy="3665520"/>
          </a:xfrm>
          <a:prstGeom prst="rect">
            <a:avLst/>
          </a:prstGeom>
          <a:ln w="0">
            <a:noFill/>
          </a:ln>
        </p:spPr>
      </p:sp>
      <p:sp>
        <p:nvSpPr>
          <p:cNvPr id="75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AE1E7-BEE1-4518-9612-58E19AAE4BD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7CF71-D425-4AC0-A41B-E78834DEA4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2" name="PlaceHolder 1"/>
          <p:cNvSpPr>
            <a:spLocks noGrp="1"/>
          </p:cNvSpPr>
          <p:nvPr>
            <p:ph type="sldImg"/>
          </p:nvPr>
        </p:nvSpPr>
        <p:spPr>
          <a:xfrm>
            <a:off x="985680" y="741240"/>
            <a:ext cx="4886640" cy="3665520"/>
          </a:xfrm>
          <a:prstGeom prst="rect">
            <a:avLst/>
          </a:prstGeom>
          <a:ln w="0">
            <a:noFill/>
          </a:ln>
        </p:spPr>
      </p:sp>
      <p:sp>
        <p:nvSpPr>
          <p:cNvPr id="75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832C3-FA6F-4E6A-9509-A86B472C92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2C3DF-30BD-4B90-911A-8FF33AF1AD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6" name="PlaceHolder 1"/>
          <p:cNvSpPr>
            <a:spLocks noGrp="1"/>
          </p:cNvSpPr>
          <p:nvPr>
            <p:ph type="sldImg"/>
          </p:nvPr>
        </p:nvSpPr>
        <p:spPr>
          <a:xfrm>
            <a:off x="985680" y="741240"/>
            <a:ext cx="4886640" cy="3665520"/>
          </a:xfrm>
          <a:prstGeom prst="rect">
            <a:avLst/>
          </a:prstGeom>
          <a:ln w="0">
            <a:noFill/>
          </a:ln>
        </p:spPr>
      </p:sp>
      <p:sp>
        <p:nvSpPr>
          <p:cNvPr id="7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7975A-0B60-4CE0-A201-931B1C74BC5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0214B-7084-47BC-8203-3F0ED44059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0" name="PlaceHolder 1"/>
          <p:cNvSpPr>
            <a:spLocks noGrp="1"/>
          </p:cNvSpPr>
          <p:nvPr>
            <p:ph type="sldImg"/>
          </p:nvPr>
        </p:nvSpPr>
        <p:spPr>
          <a:xfrm>
            <a:off x="985680" y="741240"/>
            <a:ext cx="4886640" cy="3665520"/>
          </a:xfrm>
          <a:prstGeom prst="rect">
            <a:avLst/>
          </a:prstGeom>
          <a:ln w="0">
            <a:noFill/>
          </a:ln>
        </p:spPr>
      </p:sp>
      <p:sp>
        <p:nvSpPr>
          <p:cNvPr id="75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D8AB5-803F-43F4-9AF7-43B3A0D99C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E15DB-8D87-465C-B801-B489AFA54B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4" name="PlaceHolder 1"/>
          <p:cNvSpPr>
            <a:spLocks noGrp="1"/>
          </p:cNvSpPr>
          <p:nvPr>
            <p:ph type="sldImg"/>
          </p:nvPr>
        </p:nvSpPr>
        <p:spPr>
          <a:xfrm>
            <a:off x="985680" y="741240"/>
            <a:ext cx="4886640" cy="3665520"/>
          </a:xfrm>
          <a:prstGeom prst="rect">
            <a:avLst/>
          </a:prstGeom>
          <a:ln w="0">
            <a:noFill/>
          </a:ln>
        </p:spPr>
      </p:sp>
      <p:sp>
        <p:nvSpPr>
          <p:cNvPr id="75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3D643-A97E-4FD2-9AEC-E2392A749B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53CCF-1E7D-4620-ACA3-A7D3D5A6BE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8" name="PlaceHolder 1"/>
          <p:cNvSpPr>
            <a:spLocks noGrp="1"/>
          </p:cNvSpPr>
          <p:nvPr>
            <p:ph type="sldImg"/>
          </p:nvPr>
        </p:nvSpPr>
        <p:spPr>
          <a:xfrm>
            <a:off x="985680" y="741240"/>
            <a:ext cx="4886640" cy="3665520"/>
          </a:xfrm>
          <a:prstGeom prst="rect">
            <a:avLst/>
          </a:prstGeom>
          <a:ln w="0">
            <a:noFill/>
          </a:ln>
        </p:spPr>
      </p:sp>
      <p:sp>
        <p:nvSpPr>
          <p:cNvPr id="7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4A5DB-55B2-4474-A7A1-4FEE9B1772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F8989-E087-4EE9-9597-9B195CC1CF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2" name="PlaceHolder 1"/>
          <p:cNvSpPr>
            <a:spLocks noGrp="1"/>
          </p:cNvSpPr>
          <p:nvPr>
            <p:ph type="sldImg"/>
          </p:nvPr>
        </p:nvSpPr>
        <p:spPr>
          <a:xfrm>
            <a:off x="985680" y="741240"/>
            <a:ext cx="4886640" cy="3665520"/>
          </a:xfrm>
          <a:prstGeom prst="rect">
            <a:avLst/>
          </a:prstGeom>
          <a:ln w="0">
            <a:noFill/>
          </a:ln>
        </p:spPr>
      </p:sp>
      <p:sp>
        <p:nvSpPr>
          <p:cNvPr id="75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793ED-E9E0-494C-B44A-29B0B60BC1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667E7-5E56-48C8-8E4B-61595191BCA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8" name="PlaceHolder 1"/>
          <p:cNvSpPr>
            <a:spLocks noGrp="1"/>
          </p:cNvSpPr>
          <p:nvPr>
            <p:ph type="sldImg"/>
          </p:nvPr>
        </p:nvSpPr>
        <p:spPr>
          <a:xfrm>
            <a:off x="985680" y="741240"/>
            <a:ext cx="4886640" cy="3665520"/>
          </a:xfrm>
          <a:prstGeom prst="rect">
            <a:avLst/>
          </a:prstGeom>
          <a:ln w="0">
            <a:noFill/>
          </a:ln>
        </p:spPr>
      </p:sp>
      <p:sp>
        <p:nvSpPr>
          <p:cNvPr id="7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F48CD-7B52-4300-8A79-7BFF97AF59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24AE1-38A0-4342-8310-4DB0479D45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6" name="PlaceHolder 1"/>
          <p:cNvSpPr>
            <a:spLocks noGrp="1"/>
          </p:cNvSpPr>
          <p:nvPr>
            <p:ph type="sldImg"/>
          </p:nvPr>
        </p:nvSpPr>
        <p:spPr>
          <a:xfrm>
            <a:off x="985680" y="741240"/>
            <a:ext cx="4886640" cy="3665520"/>
          </a:xfrm>
          <a:prstGeom prst="rect">
            <a:avLst/>
          </a:prstGeom>
          <a:ln w="0">
            <a:noFill/>
          </a:ln>
        </p:spPr>
      </p:sp>
      <p:sp>
        <p:nvSpPr>
          <p:cNvPr id="75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EFA7A-273E-4C2D-8D44-957BDB2E89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3FE93-B8E3-43A3-B16B-102AD1AC971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0" name="PlaceHolder 1"/>
          <p:cNvSpPr>
            <a:spLocks noGrp="1"/>
          </p:cNvSpPr>
          <p:nvPr>
            <p:ph type="sldImg"/>
          </p:nvPr>
        </p:nvSpPr>
        <p:spPr>
          <a:xfrm>
            <a:off x="985680" y="741240"/>
            <a:ext cx="4886640" cy="3665520"/>
          </a:xfrm>
          <a:prstGeom prst="rect">
            <a:avLst/>
          </a:prstGeom>
          <a:ln w="0">
            <a:noFill/>
          </a:ln>
        </p:spPr>
      </p:sp>
      <p:sp>
        <p:nvSpPr>
          <p:cNvPr id="7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75FC3-8611-4FFC-B454-0B35206AC8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1EE0C-9BDC-4F0F-A66B-3C0A6A93D6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4" name="PlaceHolder 1"/>
          <p:cNvSpPr>
            <a:spLocks noGrp="1"/>
          </p:cNvSpPr>
          <p:nvPr>
            <p:ph type="sldImg"/>
          </p:nvPr>
        </p:nvSpPr>
        <p:spPr>
          <a:xfrm>
            <a:off x="985680" y="741240"/>
            <a:ext cx="4886640" cy="3665520"/>
          </a:xfrm>
          <a:prstGeom prst="rect">
            <a:avLst/>
          </a:prstGeom>
          <a:ln w="0">
            <a:noFill/>
          </a:ln>
        </p:spPr>
      </p:sp>
      <p:sp>
        <p:nvSpPr>
          <p:cNvPr id="75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9E7B3-AA81-4D45-B53F-1D3D017218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B19DA-34FF-4C76-B9FD-C72CFADE99D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8" name="PlaceHolder 1"/>
          <p:cNvSpPr>
            <a:spLocks noGrp="1"/>
          </p:cNvSpPr>
          <p:nvPr>
            <p:ph type="sldImg"/>
          </p:nvPr>
        </p:nvSpPr>
        <p:spPr>
          <a:xfrm>
            <a:off x="985680" y="741240"/>
            <a:ext cx="4886640" cy="3665520"/>
          </a:xfrm>
          <a:prstGeom prst="rect">
            <a:avLst/>
          </a:prstGeom>
          <a:ln w="0">
            <a:noFill/>
          </a:ln>
        </p:spPr>
      </p:sp>
      <p:sp>
        <p:nvSpPr>
          <p:cNvPr id="75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95ED4-ABEA-4571-B485-1731E27297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31C7D-6AD6-4A0A-848D-5C272C7ED2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2" name="PlaceHolder 1"/>
          <p:cNvSpPr>
            <a:spLocks noGrp="1"/>
          </p:cNvSpPr>
          <p:nvPr>
            <p:ph type="sldImg"/>
          </p:nvPr>
        </p:nvSpPr>
        <p:spPr>
          <a:xfrm>
            <a:off x="985680" y="741240"/>
            <a:ext cx="4886640" cy="3665520"/>
          </a:xfrm>
          <a:prstGeom prst="rect">
            <a:avLst/>
          </a:prstGeom>
          <a:ln w="0">
            <a:noFill/>
          </a:ln>
        </p:spPr>
      </p:sp>
      <p:sp>
        <p:nvSpPr>
          <p:cNvPr id="7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25603-D1E5-48DE-9600-C3316E1D1A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67DA2-F2C2-4928-9C1C-94B1CFBF5A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6" name="PlaceHolder 1"/>
          <p:cNvSpPr>
            <a:spLocks noGrp="1"/>
          </p:cNvSpPr>
          <p:nvPr>
            <p:ph type="sldImg"/>
          </p:nvPr>
        </p:nvSpPr>
        <p:spPr>
          <a:xfrm>
            <a:off x="985680" y="741240"/>
            <a:ext cx="4886640" cy="3665520"/>
          </a:xfrm>
          <a:prstGeom prst="rect">
            <a:avLst/>
          </a:prstGeom>
          <a:ln w="0">
            <a:noFill/>
          </a:ln>
        </p:spPr>
      </p:sp>
      <p:sp>
        <p:nvSpPr>
          <p:cNvPr id="76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A7475-7D03-4A30-9EF7-569F247161E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45816-94F3-4942-8C83-B74CBA600F0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0" name="PlaceHolder 1"/>
          <p:cNvSpPr>
            <a:spLocks noGrp="1"/>
          </p:cNvSpPr>
          <p:nvPr>
            <p:ph type="sldImg"/>
          </p:nvPr>
        </p:nvSpPr>
        <p:spPr>
          <a:xfrm>
            <a:off x="985680" y="741240"/>
            <a:ext cx="4886640" cy="3665520"/>
          </a:xfrm>
          <a:prstGeom prst="rect">
            <a:avLst/>
          </a:prstGeom>
          <a:ln w="0">
            <a:noFill/>
          </a:ln>
        </p:spPr>
      </p:sp>
      <p:sp>
        <p:nvSpPr>
          <p:cNvPr id="76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5CC6E-287F-4192-96BE-69C0B3BA74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0F9E1-A2EC-4551-9D99-3DFD7AFCCB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4" name="PlaceHolder 1"/>
          <p:cNvSpPr>
            <a:spLocks noGrp="1"/>
          </p:cNvSpPr>
          <p:nvPr>
            <p:ph type="sldImg"/>
          </p:nvPr>
        </p:nvSpPr>
        <p:spPr>
          <a:xfrm>
            <a:off x="985680" y="741240"/>
            <a:ext cx="4886640" cy="3665520"/>
          </a:xfrm>
          <a:prstGeom prst="rect">
            <a:avLst/>
          </a:prstGeom>
          <a:ln w="0">
            <a:noFill/>
          </a:ln>
        </p:spPr>
      </p:sp>
      <p:sp>
        <p:nvSpPr>
          <p:cNvPr id="7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DE128-C3B0-4390-84E6-9AD4437E7B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0929A-1B65-40F3-A5D6-581CAF50B0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8" name="PlaceHolder 1"/>
          <p:cNvSpPr>
            <a:spLocks noGrp="1"/>
          </p:cNvSpPr>
          <p:nvPr>
            <p:ph type="sldImg"/>
          </p:nvPr>
        </p:nvSpPr>
        <p:spPr>
          <a:xfrm>
            <a:off x="985680" y="741240"/>
            <a:ext cx="4886640" cy="3665520"/>
          </a:xfrm>
          <a:prstGeom prst="rect">
            <a:avLst/>
          </a:prstGeom>
          <a:ln w="0">
            <a:noFill/>
          </a:ln>
        </p:spPr>
      </p:sp>
      <p:sp>
        <p:nvSpPr>
          <p:cNvPr id="7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1ADF4-33CA-4F37-B97C-F164CAA5490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C29DA-3D2A-41A9-96BC-CCCEFABE38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2" name="PlaceHolder 1"/>
          <p:cNvSpPr>
            <a:spLocks noGrp="1"/>
          </p:cNvSpPr>
          <p:nvPr>
            <p:ph type="sldImg"/>
          </p:nvPr>
        </p:nvSpPr>
        <p:spPr>
          <a:xfrm>
            <a:off x="985680" y="741240"/>
            <a:ext cx="4886640" cy="3665520"/>
          </a:xfrm>
          <a:prstGeom prst="rect">
            <a:avLst/>
          </a:prstGeom>
          <a:ln w="0">
            <a:noFill/>
          </a:ln>
        </p:spPr>
      </p:sp>
      <p:sp>
        <p:nvSpPr>
          <p:cNvPr id="76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8FBD9-F59D-4B72-8BC6-883D6911D6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3D0D7-2333-48ED-B46C-CAFAD06E73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2" name="PlaceHolder 1"/>
          <p:cNvSpPr>
            <a:spLocks noGrp="1"/>
          </p:cNvSpPr>
          <p:nvPr>
            <p:ph type="sldImg"/>
          </p:nvPr>
        </p:nvSpPr>
        <p:spPr>
          <a:xfrm>
            <a:off x="985680" y="741240"/>
            <a:ext cx="4886640" cy="3665520"/>
          </a:xfrm>
          <a:prstGeom prst="rect">
            <a:avLst/>
          </a:prstGeom>
          <a:ln w="0">
            <a:noFill/>
          </a:ln>
        </p:spPr>
      </p:sp>
      <p:sp>
        <p:nvSpPr>
          <p:cNvPr id="7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1FD6E-20C3-4307-B140-8179B0BADB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EDB1C-49C4-45CB-B6CF-6CEB4D656B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6" name="PlaceHolder 1"/>
          <p:cNvSpPr>
            <a:spLocks noGrp="1"/>
          </p:cNvSpPr>
          <p:nvPr>
            <p:ph type="sldImg"/>
          </p:nvPr>
        </p:nvSpPr>
        <p:spPr>
          <a:xfrm>
            <a:off x="985680" y="741240"/>
            <a:ext cx="4886640" cy="3665520"/>
          </a:xfrm>
          <a:prstGeom prst="rect">
            <a:avLst/>
          </a:prstGeom>
          <a:ln w="0">
            <a:noFill/>
          </a:ln>
        </p:spPr>
      </p:sp>
      <p:sp>
        <p:nvSpPr>
          <p:cNvPr id="7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6E436-1F17-4624-9AD1-4BAA656313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5EA87-C456-494D-947E-10ADE58B3B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0" name="PlaceHolder 1"/>
          <p:cNvSpPr>
            <a:spLocks noGrp="1"/>
          </p:cNvSpPr>
          <p:nvPr>
            <p:ph type="sldImg"/>
          </p:nvPr>
        </p:nvSpPr>
        <p:spPr>
          <a:xfrm>
            <a:off x="985680" y="741240"/>
            <a:ext cx="4886640" cy="3665520"/>
          </a:xfrm>
          <a:prstGeom prst="rect">
            <a:avLst/>
          </a:prstGeom>
          <a:ln w="0">
            <a:noFill/>
          </a:ln>
        </p:spPr>
      </p:sp>
      <p:sp>
        <p:nvSpPr>
          <p:cNvPr id="7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528C7-954A-41E3-8311-B1403355D3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55E0C-FCE1-4CFE-8ECA-91B9163580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4" name="PlaceHolder 1"/>
          <p:cNvSpPr>
            <a:spLocks noGrp="1"/>
          </p:cNvSpPr>
          <p:nvPr>
            <p:ph type="sldImg"/>
          </p:nvPr>
        </p:nvSpPr>
        <p:spPr>
          <a:xfrm>
            <a:off x="985680" y="741240"/>
            <a:ext cx="4886640" cy="3665520"/>
          </a:xfrm>
          <a:prstGeom prst="rect">
            <a:avLst/>
          </a:prstGeom>
          <a:ln w="0">
            <a:noFill/>
          </a:ln>
        </p:spPr>
      </p:sp>
      <p:sp>
        <p:nvSpPr>
          <p:cNvPr id="7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7619B-57A6-4D42-AA46-24CBD3E0CD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E2C4E-A460-423A-BBAD-A6C9DED6B2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8" name="PlaceHolder 1"/>
          <p:cNvSpPr>
            <a:spLocks noGrp="1"/>
          </p:cNvSpPr>
          <p:nvPr>
            <p:ph type="sldImg"/>
          </p:nvPr>
        </p:nvSpPr>
        <p:spPr>
          <a:xfrm>
            <a:off x="985680" y="741240"/>
            <a:ext cx="4886640" cy="3665520"/>
          </a:xfrm>
          <a:prstGeom prst="rect">
            <a:avLst/>
          </a:prstGeom>
          <a:ln w="0">
            <a:noFill/>
          </a:ln>
        </p:spPr>
      </p:sp>
      <p:sp>
        <p:nvSpPr>
          <p:cNvPr id="7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05639-F878-4C61-927A-4681FE2029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300A3-E9B0-4EE1-BB1B-66FE0C2061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2" name="PlaceHolder 1"/>
          <p:cNvSpPr>
            <a:spLocks noGrp="1"/>
          </p:cNvSpPr>
          <p:nvPr>
            <p:ph type="sldImg"/>
          </p:nvPr>
        </p:nvSpPr>
        <p:spPr>
          <a:xfrm>
            <a:off x="985680" y="741240"/>
            <a:ext cx="4886640" cy="3665520"/>
          </a:xfrm>
          <a:prstGeom prst="rect">
            <a:avLst/>
          </a:prstGeom>
          <a:ln w="0">
            <a:noFill/>
          </a:ln>
        </p:spPr>
      </p:sp>
      <p:sp>
        <p:nvSpPr>
          <p:cNvPr id="7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C1465-C6C0-40A5-9156-62B25B22B0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001F1-2EA2-4F40-9445-FAFA0A5FFD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6" name="PlaceHolder 1"/>
          <p:cNvSpPr>
            <a:spLocks noGrp="1"/>
          </p:cNvSpPr>
          <p:nvPr>
            <p:ph type="sldImg"/>
          </p:nvPr>
        </p:nvSpPr>
        <p:spPr>
          <a:xfrm>
            <a:off x="985680" y="741240"/>
            <a:ext cx="4886640" cy="3665520"/>
          </a:xfrm>
          <a:prstGeom prst="rect">
            <a:avLst/>
          </a:prstGeom>
          <a:ln w="0">
            <a:noFill/>
          </a:ln>
        </p:spPr>
      </p:sp>
      <p:sp>
        <p:nvSpPr>
          <p:cNvPr id="7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A0EBA-094D-46EE-B416-F5FA80DDB1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1F663-8008-43EB-99A2-DC6AF40E54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0" name="PlaceHolder 1"/>
          <p:cNvSpPr>
            <a:spLocks noGrp="1"/>
          </p:cNvSpPr>
          <p:nvPr>
            <p:ph type="sldImg"/>
          </p:nvPr>
        </p:nvSpPr>
        <p:spPr>
          <a:xfrm>
            <a:off x="985680" y="741240"/>
            <a:ext cx="4886640" cy="3665520"/>
          </a:xfrm>
          <a:prstGeom prst="rect">
            <a:avLst/>
          </a:prstGeom>
          <a:ln w="0">
            <a:noFill/>
          </a:ln>
        </p:spPr>
      </p:sp>
      <p:sp>
        <p:nvSpPr>
          <p:cNvPr id="7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25B37-534C-4386-B1AB-7F6445969D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B299E-39A6-41B6-B7F1-30DB1FF32C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4" name="PlaceHolder 1"/>
          <p:cNvSpPr>
            <a:spLocks noGrp="1"/>
          </p:cNvSpPr>
          <p:nvPr>
            <p:ph type="sldImg"/>
          </p:nvPr>
        </p:nvSpPr>
        <p:spPr>
          <a:xfrm>
            <a:off x="985680" y="741240"/>
            <a:ext cx="4886640" cy="3665520"/>
          </a:xfrm>
          <a:prstGeom prst="rect">
            <a:avLst/>
          </a:prstGeom>
          <a:ln w="0">
            <a:noFill/>
          </a:ln>
        </p:spPr>
      </p:sp>
      <p:sp>
        <p:nvSpPr>
          <p:cNvPr id="7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5E834-A1F6-41E4-9E9E-C446D2212A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99314-DF70-4FBA-A733-CFC41187BF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8" name="PlaceHolder 1"/>
          <p:cNvSpPr>
            <a:spLocks noGrp="1"/>
          </p:cNvSpPr>
          <p:nvPr>
            <p:ph type="sldImg"/>
          </p:nvPr>
        </p:nvSpPr>
        <p:spPr>
          <a:xfrm>
            <a:off x="985680" y="741240"/>
            <a:ext cx="4886640" cy="3665520"/>
          </a:xfrm>
          <a:prstGeom prst="rect">
            <a:avLst/>
          </a:prstGeom>
          <a:ln w="0">
            <a:noFill/>
          </a:ln>
        </p:spPr>
      </p:sp>
      <p:sp>
        <p:nvSpPr>
          <p:cNvPr id="7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95701-B93C-43E4-93BF-DBDC2BAF6D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44EAF-DD7C-49FB-B0AC-7EBA609635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2" name="PlaceHolder 1"/>
          <p:cNvSpPr>
            <a:spLocks noGrp="1"/>
          </p:cNvSpPr>
          <p:nvPr>
            <p:ph type="sldImg"/>
          </p:nvPr>
        </p:nvSpPr>
        <p:spPr>
          <a:xfrm>
            <a:off x="985680" y="741240"/>
            <a:ext cx="4886640" cy="3665520"/>
          </a:xfrm>
          <a:prstGeom prst="rect">
            <a:avLst/>
          </a:prstGeom>
          <a:ln w="0">
            <a:noFill/>
          </a:ln>
        </p:spPr>
      </p:sp>
      <p:sp>
        <p:nvSpPr>
          <p:cNvPr id="7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77328-BDAE-4162-B26A-BE0136AEBF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82844-F6F7-4677-A882-4D9ABB6B6C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6" name="PlaceHolder 1"/>
          <p:cNvSpPr>
            <a:spLocks noGrp="1"/>
          </p:cNvSpPr>
          <p:nvPr>
            <p:ph type="sldImg"/>
          </p:nvPr>
        </p:nvSpPr>
        <p:spPr>
          <a:xfrm>
            <a:off x="985680" y="741240"/>
            <a:ext cx="4886640" cy="3665520"/>
          </a:xfrm>
          <a:prstGeom prst="rect">
            <a:avLst/>
          </a:prstGeom>
          <a:ln w="0">
            <a:noFill/>
          </a:ln>
        </p:spPr>
      </p:sp>
      <p:sp>
        <p:nvSpPr>
          <p:cNvPr id="7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037DB-1AA0-4648-B4C9-32EAF0D5F5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30DF3-A221-4386-AFA3-F05580BF34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6" name="PlaceHolder 1"/>
          <p:cNvSpPr>
            <a:spLocks noGrp="1"/>
          </p:cNvSpPr>
          <p:nvPr>
            <p:ph type="sldImg"/>
          </p:nvPr>
        </p:nvSpPr>
        <p:spPr>
          <a:xfrm>
            <a:off x="985680" y="741240"/>
            <a:ext cx="4886640" cy="3665520"/>
          </a:xfrm>
          <a:prstGeom prst="rect">
            <a:avLst/>
          </a:prstGeom>
          <a:ln w="0">
            <a:noFill/>
          </a:ln>
        </p:spPr>
      </p:sp>
      <p:sp>
        <p:nvSpPr>
          <p:cNvPr id="7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E438C-1A34-431A-8B3A-7B043A1D56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06D04-2F62-4A4B-ABF5-0240C47294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0" name="PlaceHolder 1"/>
          <p:cNvSpPr>
            <a:spLocks noGrp="1"/>
          </p:cNvSpPr>
          <p:nvPr>
            <p:ph type="sldImg"/>
          </p:nvPr>
        </p:nvSpPr>
        <p:spPr>
          <a:xfrm>
            <a:off x="985680" y="741240"/>
            <a:ext cx="4886640" cy="3665520"/>
          </a:xfrm>
          <a:prstGeom prst="rect">
            <a:avLst/>
          </a:prstGeom>
          <a:ln w="0">
            <a:noFill/>
          </a:ln>
        </p:spPr>
      </p:sp>
      <p:sp>
        <p:nvSpPr>
          <p:cNvPr id="7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735DB-453A-4B5E-B11F-EC8CE69469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FE977-2F2B-4366-9FD4-B471DFB0DE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4" name="PlaceHolder 1"/>
          <p:cNvSpPr>
            <a:spLocks noGrp="1"/>
          </p:cNvSpPr>
          <p:nvPr>
            <p:ph type="sldImg"/>
          </p:nvPr>
        </p:nvSpPr>
        <p:spPr>
          <a:xfrm>
            <a:off x="985680" y="741240"/>
            <a:ext cx="4886640" cy="3665520"/>
          </a:xfrm>
          <a:prstGeom prst="rect">
            <a:avLst/>
          </a:prstGeom>
          <a:ln w="0">
            <a:noFill/>
          </a:ln>
        </p:spPr>
      </p:sp>
      <p:sp>
        <p:nvSpPr>
          <p:cNvPr id="7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484DB-0750-4E3C-AB02-B9E7C7F829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3AD51-AC1B-41FD-A580-6D2BBB77BB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8" name="PlaceHolder 1"/>
          <p:cNvSpPr>
            <a:spLocks noGrp="1"/>
          </p:cNvSpPr>
          <p:nvPr>
            <p:ph type="sldImg"/>
          </p:nvPr>
        </p:nvSpPr>
        <p:spPr>
          <a:xfrm>
            <a:off x="985680" y="741240"/>
            <a:ext cx="4886640" cy="3665520"/>
          </a:xfrm>
          <a:prstGeom prst="rect">
            <a:avLst/>
          </a:prstGeom>
          <a:ln w="0">
            <a:noFill/>
          </a:ln>
        </p:spPr>
      </p:sp>
      <p:sp>
        <p:nvSpPr>
          <p:cNvPr id="7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A1D0A-B407-4361-B126-ED6DBCDF16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1F0BE-6221-4311-90D4-4F706BF8DD5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2" name="PlaceHolder 1"/>
          <p:cNvSpPr>
            <a:spLocks noGrp="1"/>
          </p:cNvSpPr>
          <p:nvPr>
            <p:ph type="sldImg"/>
          </p:nvPr>
        </p:nvSpPr>
        <p:spPr>
          <a:xfrm>
            <a:off x="985680" y="741240"/>
            <a:ext cx="4886640" cy="3665520"/>
          </a:xfrm>
          <a:prstGeom prst="rect">
            <a:avLst/>
          </a:prstGeom>
          <a:ln w="0">
            <a:noFill/>
          </a:ln>
        </p:spPr>
      </p:sp>
      <p:sp>
        <p:nvSpPr>
          <p:cNvPr id="7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E586F-67A1-47FE-9311-44636FE5B92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D247E-3147-4C39-B662-095A1140B1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6" name="PlaceHolder 1"/>
          <p:cNvSpPr>
            <a:spLocks noGrp="1"/>
          </p:cNvSpPr>
          <p:nvPr>
            <p:ph type="sldImg"/>
          </p:nvPr>
        </p:nvSpPr>
        <p:spPr>
          <a:xfrm>
            <a:off x="985680" y="741240"/>
            <a:ext cx="4886640" cy="3665520"/>
          </a:xfrm>
          <a:prstGeom prst="rect">
            <a:avLst/>
          </a:prstGeom>
          <a:ln w="0">
            <a:noFill/>
          </a:ln>
        </p:spPr>
      </p:sp>
      <p:sp>
        <p:nvSpPr>
          <p:cNvPr id="7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90AFB-AFBF-4F0C-9060-F0CD03652A3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E4747-8AA7-49C1-8DEE-0258B0FF91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0" name="PlaceHolder 1"/>
          <p:cNvSpPr>
            <a:spLocks noGrp="1"/>
          </p:cNvSpPr>
          <p:nvPr>
            <p:ph type="sldImg"/>
          </p:nvPr>
        </p:nvSpPr>
        <p:spPr>
          <a:xfrm>
            <a:off x="985680" y="741240"/>
            <a:ext cx="4886640" cy="3665520"/>
          </a:xfrm>
          <a:prstGeom prst="rect">
            <a:avLst/>
          </a:prstGeom>
          <a:ln w="0">
            <a:noFill/>
          </a:ln>
        </p:spPr>
      </p:sp>
      <p:sp>
        <p:nvSpPr>
          <p:cNvPr id="7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D21C5-D17A-4706-A6F4-6C68B5C290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6CF5C-6D23-4288-A241-12D13AA668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4" name="PlaceHolder 1"/>
          <p:cNvSpPr>
            <a:spLocks noGrp="1"/>
          </p:cNvSpPr>
          <p:nvPr>
            <p:ph type="sldImg"/>
          </p:nvPr>
        </p:nvSpPr>
        <p:spPr>
          <a:xfrm>
            <a:off x="985680" y="741240"/>
            <a:ext cx="4886640" cy="3665520"/>
          </a:xfrm>
          <a:prstGeom prst="rect">
            <a:avLst/>
          </a:prstGeom>
          <a:ln w="0">
            <a:noFill/>
          </a:ln>
        </p:spPr>
      </p:sp>
      <p:sp>
        <p:nvSpPr>
          <p:cNvPr id="7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86009-ED03-448E-B110-3D6C36705F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C6884-9A3E-4A83-8B32-A1F467EC75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8" name="PlaceHolder 1"/>
          <p:cNvSpPr>
            <a:spLocks noGrp="1"/>
          </p:cNvSpPr>
          <p:nvPr>
            <p:ph type="sldImg"/>
          </p:nvPr>
        </p:nvSpPr>
        <p:spPr>
          <a:xfrm>
            <a:off x="985680" y="741240"/>
            <a:ext cx="4886640" cy="3665520"/>
          </a:xfrm>
          <a:prstGeom prst="rect">
            <a:avLst/>
          </a:prstGeom>
          <a:ln w="0">
            <a:noFill/>
          </a:ln>
        </p:spPr>
      </p:sp>
      <p:sp>
        <p:nvSpPr>
          <p:cNvPr id="7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F6A3F-DE1E-41A0-8270-859E44ACA9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35D45-275A-4ADF-8F64-0780A87BB6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2" name="PlaceHolder 1"/>
          <p:cNvSpPr>
            <a:spLocks noGrp="1"/>
          </p:cNvSpPr>
          <p:nvPr>
            <p:ph type="sldImg"/>
          </p:nvPr>
        </p:nvSpPr>
        <p:spPr>
          <a:xfrm>
            <a:off x="985680" y="741240"/>
            <a:ext cx="4886640" cy="3665520"/>
          </a:xfrm>
          <a:prstGeom prst="rect">
            <a:avLst/>
          </a:prstGeom>
          <a:ln w="0">
            <a:noFill/>
          </a:ln>
        </p:spPr>
      </p:sp>
      <p:sp>
        <p:nvSpPr>
          <p:cNvPr id="7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04EA0-C510-4163-8B0F-0E76979198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4BE07-7D61-4AD6-9EEE-8A125AE548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0" name="PlaceHolder 1"/>
          <p:cNvSpPr>
            <a:spLocks noGrp="1"/>
          </p:cNvSpPr>
          <p:nvPr>
            <p:ph type="sldImg"/>
          </p:nvPr>
        </p:nvSpPr>
        <p:spPr>
          <a:xfrm>
            <a:off x="985680" y="741240"/>
            <a:ext cx="4886640" cy="3665520"/>
          </a:xfrm>
          <a:prstGeom prst="rect">
            <a:avLst/>
          </a:prstGeom>
          <a:ln w="0">
            <a:noFill/>
          </a:ln>
        </p:spPr>
      </p:sp>
      <p:sp>
        <p:nvSpPr>
          <p:cNvPr id="7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0960C-17FF-421E-BF5E-0FB90FC313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D22AF-C115-401F-AC40-49C494434B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6" name="PlaceHolder 1"/>
          <p:cNvSpPr>
            <a:spLocks noGrp="1"/>
          </p:cNvSpPr>
          <p:nvPr>
            <p:ph type="sldImg"/>
          </p:nvPr>
        </p:nvSpPr>
        <p:spPr>
          <a:xfrm>
            <a:off x="985680" y="741240"/>
            <a:ext cx="4886640" cy="3665520"/>
          </a:xfrm>
          <a:prstGeom prst="rect">
            <a:avLst/>
          </a:prstGeom>
          <a:ln w="0">
            <a:noFill/>
          </a:ln>
        </p:spPr>
      </p:sp>
      <p:sp>
        <p:nvSpPr>
          <p:cNvPr id="7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7D101-BFA9-4E96-8C01-A09E258964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A0874-1201-42CD-AC4F-E01FB6CF54E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0" name="PlaceHolder 1"/>
          <p:cNvSpPr>
            <a:spLocks noGrp="1"/>
          </p:cNvSpPr>
          <p:nvPr>
            <p:ph type="sldImg"/>
          </p:nvPr>
        </p:nvSpPr>
        <p:spPr>
          <a:xfrm>
            <a:off x="985680" y="741240"/>
            <a:ext cx="4886640" cy="3665520"/>
          </a:xfrm>
          <a:prstGeom prst="rect">
            <a:avLst/>
          </a:prstGeom>
          <a:ln w="0">
            <a:noFill/>
          </a:ln>
        </p:spPr>
      </p:sp>
      <p:sp>
        <p:nvSpPr>
          <p:cNvPr id="7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53173-4EB2-405C-ABED-ED063C7924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2259A-7825-4FC7-B40F-E452DEFD59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4" name="PlaceHolder 1"/>
          <p:cNvSpPr>
            <a:spLocks noGrp="1"/>
          </p:cNvSpPr>
          <p:nvPr>
            <p:ph type="sldImg"/>
          </p:nvPr>
        </p:nvSpPr>
        <p:spPr>
          <a:xfrm>
            <a:off x="985680" y="741240"/>
            <a:ext cx="4886640" cy="3665520"/>
          </a:xfrm>
          <a:prstGeom prst="rect">
            <a:avLst/>
          </a:prstGeom>
          <a:ln w="0">
            <a:noFill/>
          </a:ln>
        </p:spPr>
      </p:sp>
      <p:sp>
        <p:nvSpPr>
          <p:cNvPr id="7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84F41-2406-4637-A8AA-1AEB44465C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502A8-F54D-40ED-B036-C08D246B4F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8" name="PlaceHolder 1"/>
          <p:cNvSpPr>
            <a:spLocks noGrp="1"/>
          </p:cNvSpPr>
          <p:nvPr>
            <p:ph type="sldImg"/>
          </p:nvPr>
        </p:nvSpPr>
        <p:spPr>
          <a:xfrm>
            <a:off x="985680" y="741240"/>
            <a:ext cx="4886640" cy="3665520"/>
          </a:xfrm>
          <a:prstGeom prst="rect">
            <a:avLst/>
          </a:prstGeom>
          <a:ln w="0">
            <a:noFill/>
          </a:ln>
        </p:spPr>
      </p:sp>
      <p:sp>
        <p:nvSpPr>
          <p:cNvPr id="7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F3B77-C34D-404E-B118-407741E3EA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6E83F-7BBC-44A8-820B-015EA126AA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2" name="PlaceHolder 1"/>
          <p:cNvSpPr>
            <a:spLocks noGrp="1"/>
          </p:cNvSpPr>
          <p:nvPr>
            <p:ph type="sldImg"/>
          </p:nvPr>
        </p:nvSpPr>
        <p:spPr>
          <a:xfrm>
            <a:off x="985680" y="741240"/>
            <a:ext cx="4886640" cy="3665520"/>
          </a:xfrm>
          <a:prstGeom prst="rect">
            <a:avLst/>
          </a:prstGeom>
          <a:ln w="0">
            <a:noFill/>
          </a:ln>
        </p:spPr>
      </p:sp>
      <p:sp>
        <p:nvSpPr>
          <p:cNvPr id="7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B2311-F71D-4812-8816-B68E62AFC5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27B00-B59C-4BF0-B0B3-BE7FF798D02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6" name="PlaceHolder 1"/>
          <p:cNvSpPr>
            <a:spLocks noGrp="1"/>
          </p:cNvSpPr>
          <p:nvPr>
            <p:ph type="sldImg"/>
          </p:nvPr>
        </p:nvSpPr>
        <p:spPr>
          <a:xfrm>
            <a:off x="985680" y="741240"/>
            <a:ext cx="4886640" cy="3665520"/>
          </a:xfrm>
          <a:prstGeom prst="rect">
            <a:avLst/>
          </a:prstGeom>
          <a:ln w="0">
            <a:noFill/>
          </a:ln>
        </p:spPr>
      </p:sp>
      <p:sp>
        <p:nvSpPr>
          <p:cNvPr id="7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3278A-A3D6-4A3C-AA1F-330CC0149F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812AE-22C8-4CD7-9F4C-9FFC774C61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0" name="PlaceHolder 1"/>
          <p:cNvSpPr>
            <a:spLocks noGrp="1"/>
          </p:cNvSpPr>
          <p:nvPr>
            <p:ph type="sldImg"/>
          </p:nvPr>
        </p:nvSpPr>
        <p:spPr>
          <a:xfrm>
            <a:off x="985680" y="741240"/>
            <a:ext cx="4886640" cy="3665520"/>
          </a:xfrm>
          <a:prstGeom prst="rect">
            <a:avLst/>
          </a:prstGeom>
          <a:ln w="0">
            <a:noFill/>
          </a:ln>
        </p:spPr>
      </p:sp>
      <p:sp>
        <p:nvSpPr>
          <p:cNvPr id="7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AB06A-5463-42EC-8A2C-23FAEA3BCA8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FF4AB-4EFA-431C-9F36-7C4B1B0A0D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4" name="PlaceHolder 1"/>
          <p:cNvSpPr>
            <a:spLocks noGrp="1"/>
          </p:cNvSpPr>
          <p:nvPr>
            <p:ph type="sldImg"/>
          </p:nvPr>
        </p:nvSpPr>
        <p:spPr>
          <a:xfrm>
            <a:off x="985680" y="741240"/>
            <a:ext cx="4886640" cy="3665520"/>
          </a:xfrm>
          <a:prstGeom prst="rect">
            <a:avLst/>
          </a:prstGeom>
          <a:ln w="0">
            <a:noFill/>
          </a:ln>
        </p:spPr>
      </p:sp>
      <p:sp>
        <p:nvSpPr>
          <p:cNvPr id="7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E7C7A-1796-42D6-A288-52A16987B3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6104E-ACDB-434B-BCFA-8BA23B0A12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8" name="PlaceHolder 1"/>
          <p:cNvSpPr>
            <a:spLocks noGrp="1"/>
          </p:cNvSpPr>
          <p:nvPr>
            <p:ph type="sldImg"/>
          </p:nvPr>
        </p:nvSpPr>
        <p:spPr>
          <a:xfrm>
            <a:off x="985680" y="741240"/>
            <a:ext cx="4886640" cy="3665520"/>
          </a:xfrm>
          <a:prstGeom prst="rect">
            <a:avLst/>
          </a:prstGeom>
          <a:ln w="0">
            <a:noFill/>
          </a:ln>
        </p:spPr>
      </p:sp>
      <p:sp>
        <p:nvSpPr>
          <p:cNvPr id="7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7A055-F07F-4558-A566-49833C26B6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A8127-C017-4A9C-A5DB-FEDC9CF8D1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2" name="PlaceHolder 1"/>
          <p:cNvSpPr>
            <a:spLocks noGrp="1"/>
          </p:cNvSpPr>
          <p:nvPr>
            <p:ph type="sldImg"/>
          </p:nvPr>
        </p:nvSpPr>
        <p:spPr>
          <a:xfrm>
            <a:off x="985680" y="741240"/>
            <a:ext cx="4886640" cy="3665520"/>
          </a:xfrm>
          <a:prstGeom prst="rect">
            <a:avLst/>
          </a:prstGeom>
          <a:ln w="0">
            <a:noFill/>
          </a:ln>
        </p:spPr>
      </p:sp>
      <p:sp>
        <p:nvSpPr>
          <p:cNvPr id="7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8F9B3-D55A-40F2-A5F9-D8D9125E6F3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D5008-4FFD-4BA0-8D42-852B38367C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4" name="PlaceHolder 1"/>
          <p:cNvSpPr>
            <a:spLocks noGrp="1"/>
          </p:cNvSpPr>
          <p:nvPr>
            <p:ph type="sldImg"/>
          </p:nvPr>
        </p:nvSpPr>
        <p:spPr>
          <a:xfrm>
            <a:off x="985680" y="741240"/>
            <a:ext cx="4886640" cy="3665520"/>
          </a:xfrm>
          <a:prstGeom prst="rect">
            <a:avLst/>
          </a:prstGeom>
          <a:ln w="0">
            <a:noFill/>
          </a:ln>
        </p:spPr>
      </p:sp>
      <p:sp>
        <p:nvSpPr>
          <p:cNvPr id="7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9748E-18BB-4F1C-B59B-FC9BE53297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E4D35-9AEA-4AB9-BA5A-429A79ECFE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6" name="PlaceHolder 1"/>
          <p:cNvSpPr>
            <a:spLocks noGrp="1"/>
          </p:cNvSpPr>
          <p:nvPr>
            <p:ph type="sldImg"/>
          </p:nvPr>
        </p:nvSpPr>
        <p:spPr>
          <a:xfrm>
            <a:off x="985680" y="741240"/>
            <a:ext cx="4886640" cy="3665520"/>
          </a:xfrm>
          <a:prstGeom prst="rect">
            <a:avLst/>
          </a:prstGeom>
          <a:ln w="0">
            <a:noFill/>
          </a:ln>
        </p:spPr>
      </p:sp>
      <p:sp>
        <p:nvSpPr>
          <p:cNvPr id="7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9B967-DF1A-4F50-9B52-D76E4E1909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00E9B-734D-4684-966D-825A8AEC00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0" name="PlaceHolder 1"/>
          <p:cNvSpPr>
            <a:spLocks noGrp="1"/>
          </p:cNvSpPr>
          <p:nvPr>
            <p:ph type="sldImg"/>
          </p:nvPr>
        </p:nvSpPr>
        <p:spPr>
          <a:xfrm>
            <a:off x="985680" y="741240"/>
            <a:ext cx="4886640" cy="3665520"/>
          </a:xfrm>
          <a:prstGeom prst="rect">
            <a:avLst/>
          </a:prstGeom>
          <a:ln w="0">
            <a:noFill/>
          </a:ln>
        </p:spPr>
      </p:sp>
      <p:sp>
        <p:nvSpPr>
          <p:cNvPr id="7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8F271-A14E-41B3-A152-78EC906616B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A611F-AB9B-471B-AD1F-EB58852273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4" name="PlaceHolder 1"/>
          <p:cNvSpPr>
            <a:spLocks noGrp="1"/>
          </p:cNvSpPr>
          <p:nvPr>
            <p:ph type="sldImg"/>
          </p:nvPr>
        </p:nvSpPr>
        <p:spPr>
          <a:xfrm>
            <a:off x="985680" y="741240"/>
            <a:ext cx="4886640" cy="3665520"/>
          </a:xfrm>
          <a:prstGeom prst="rect">
            <a:avLst/>
          </a:prstGeom>
          <a:ln w="0">
            <a:noFill/>
          </a:ln>
        </p:spPr>
      </p:sp>
      <p:sp>
        <p:nvSpPr>
          <p:cNvPr id="7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A4CD3-6D5D-484E-8D67-30A46DF81C9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5171C-74F4-4464-B9B7-923AA3F048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8" name="PlaceHolder 1"/>
          <p:cNvSpPr>
            <a:spLocks noGrp="1"/>
          </p:cNvSpPr>
          <p:nvPr>
            <p:ph type="sldImg"/>
          </p:nvPr>
        </p:nvSpPr>
        <p:spPr>
          <a:xfrm>
            <a:off x="985680" y="741240"/>
            <a:ext cx="4886640" cy="3665520"/>
          </a:xfrm>
          <a:prstGeom prst="rect">
            <a:avLst/>
          </a:prstGeom>
          <a:ln w="0">
            <a:noFill/>
          </a:ln>
        </p:spPr>
      </p:sp>
      <p:sp>
        <p:nvSpPr>
          <p:cNvPr id="7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B0123-31DC-4A3A-B684-8798C0FA46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800FA-3D9E-4028-A916-08CBCBED5E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2" name="PlaceHolder 1"/>
          <p:cNvSpPr>
            <a:spLocks noGrp="1"/>
          </p:cNvSpPr>
          <p:nvPr>
            <p:ph type="sldImg"/>
          </p:nvPr>
        </p:nvSpPr>
        <p:spPr>
          <a:xfrm>
            <a:off x="985680" y="741240"/>
            <a:ext cx="4886640" cy="3665520"/>
          </a:xfrm>
          <a:prstGeom prst="rect">
            <a:avLst/>
          </a:prstGeom>
          <a:ln w="0">
            <a:noFill/>
          </a:ln>
        </p:spPr>
      </p:sp>
      <p:sp>
        <p:nvSpPr>
          <p:cNvPr id="7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6A76B-62AD-4C5E-8E42-B82DE9D65F2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5C786-9167-4ECC-AB79-1884E71CB3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6" name="PlaceHolder 1"/>
          <p:cNvSpPr>
            <a:spLocks noGrp="1"/>
          </p:cNvSpPr>
          <p:nvPr>
            <p:ph type="sldImg"/>
          </p:nvPr>
        </p:nvSpPr>
        <p:spPr>
          <a:xfrm>
            <a:off x="985680" y="741240"/>
            <a:ext cx="4886640" cy="3665520"/>
          </a:xfrm>
          <a:prstGeom prst="rect">
            <a:avLst/>
          </a:prstGeom>
          <a:ln w="0">
            <a:noFill/>
          </a:ln>
        </p:spPr>
      </p:sp>
      <p:sp>
        <p:nvSpPr>
          <p:cNvPr id="7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54981-3E57-463B-9C2F-99723E16AC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83513-55A8-4FD2-9B00-6C1BB66CAB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0" name="PlaceHolder 1"/>
          <p:cNvSpPr>
            <a:spLocks noGrp="1"/>
          </p:cNvSpPr>
          <p:nvPr>
            <p:ph type="sldImg"/>
          </p:nvPr>
        </p:nvSpPr>
        <p:spPr>
          <a:xfrm>
            <a:off x="985680" y="741240"/>
            <a:ext cx="4886640" cy="3665520"/>
          </a:xfrm>
          <a:prstGeom prst="rect">
            <a:avLst/>
          </a:prstGeom>
          <a:ln w="0">
            <a:noFill/>
          </a:ln>
        </p:spPr>
      </p:sp>
      <p:sp>
        <p:nvSpPr>
          <p:cNvPr id="7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6C81C-00DD-4142-928D-5B97DC7FCF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FCC5E-EB7C-4F10-B121-3C9915C2CE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4" name="PlaceHolder 1"/>
          <p:cNvSpPr>
            <a:spLocks noGrp="1"/>
          </p:cNvSpPr>
          <p:nvPr>
            <p:ph type="sldImg"/>
          </p:nvPr>
        </p:nvSpPr>
        <p:spPr>
          <a:xfrm>
            <a:off x="985680" y="741240"/>
            <a:ext cx="4886640" cy="3665520"/>
          </a:xfrm>
          <a:prstGeom prst="rect">
            <a:avLst/>
          </a:prstGeom>
          <a:ln w="0">
            <a:noFill/>
          </a:ln>
        </p:spPr>
      </p:sp>
      <p:sp>
        <p:nvSpPr>
          <p:cNvPr id="7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D5E77-C62C-4ABD-867C-090A924C97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A12EB-1CC5-48F1-A1B0-EC532E221A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8" name="PlaceHolder 1"/>
          <p:cNvSpPr>
            <a:spLocks noGrp="1"/>
          </p:cNvSpPr>
          <p:nvPr>
            <p:ph type="sldImg"/>
          </p:nvPr>
        </p:nvSpPr>
        <p:spPr>
          <a:xfrm>
            <a:off x="985680" y="741240"/>
            <a:ext cx="4886640" cy="3665520"/>
          </a:xfrm>
          <a:prstGeom prst="rect">
            <a:avLst/>
          </a:prstGeom>
          <a:ln w="0">
            <a:noFill/>
          </a:ln>
        </p:spPr>
      </p:sp>
      <p:sp>
        <p:nvSpPr>
          <p:cNvPr id="7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B8199-F488-466D-891A-FBE113F3EB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F1335-E558-486C-84A9-509AB872B2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2" name="PlaceHolder 1"/>
          <p:cNvSpPr>
            <a:spLocks noGrp="1"/>
          </p:cNvSpPr>
          <p:nvPr>
            <p:ph type="sldImg"/>
          </p:nvPr>
        </p:nvSpPr>
        <p:spPr>
          <a:xfrm>
            <a:off x="985680" y="741240"/>
            <a:ext cx="4886640" cy="3665520"/>
          </a:xfrm>
          <a:prstGeom prst="rect">
            <a:avLst/>
          </a:prstGeom>
          <a:ln w="0">
            <a:noFill/>
          </a:ln>
        </p:spPr>
      </p:sp>
      <p:sp>
        <p:nvSpPr>
          <p:cNvPr id="7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B9564-5BBB-4BDB-8576-F91317FADF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A4DEF-8DCA-4372-A8EC-A2ACCDF7C4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8" name="PlaceHolder 1"/>
          <p:cNvSpPr>
            <a:spLocks noGrp="1"/>
          </p:cNvSpPr>
          <p:nvPr>
            <p:ph type="sldImg"/>
          </p:nvPr>
        </p:nvSpPr>
        <p:spPr>
          <a:xfrm>
            <a:off x="985680" y="741240"/>
            <a:ext cx="4886640" cy="3665520"/>
          </a:xfrm>
          <a:prstGeom prst="rect">
            <a:avLst/>
          </a:prstGeom>
          <a:ln w="0">
            <a:noFill/>
          </a:ln>
        </p:spPr>
      </p:sp>
      <p:sp>
        <p:nvSpPr>
          <p:cNvPr id="7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E790D-A9A8-4435-89A6-30C27DF62ED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8E61D-7B75-4C91-A74F-836FBA2980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6" name="PlaceHolder 1"/>
          <p:cNvSpPr>
            <a:spLocks noGrp="1"/>
          </p:cNvSpPr>
          <p:nvPr>
            <p:ph type="sldImg"/>
          </p:nvPr>
        </p:nvSpPr>
        <p:spPr>
          <a:xfrm>
            <a:off x="985680" y="741240"/>
            <a:ext cx="4886640" cy="3665520"/>
          </a:xfrm>
          <a:prstGeom prst="rect">
            <a:avLst/>
          </a:prstGeom>
          <a:ln w="0">
            <a:noFill/>
          </a:ln>
        </p:spPr>
      </p:sp>
      <p:sp>
        <p:nvSpPr>
          <p:cNvPr id="7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99AFA-74E9-4519-A448-80EB3648B4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06D16-9897-444B-877E-00A709632B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0" name="PlaceHolder 1"/>
          <p:cNvSpPr>
            <a:spLocks noGrp="1"/>
          </p:cNvSpPr>
          <p:nvPr>
            <p:ph type="sldImg"/>
          </p:nvPr>
        </p:nvSpPr>
        <p:spPr>
          <a:xfrm>
            <a:off x="985680" y="741240"/>
            <a:ext cx="4886640" cy="3665520"/>
          </a:xfrm>
          <a:prstGeom prst="rect">
            <a:avLst/>
          </a:prstGeom>
          <a:ln w="0">
            <a:noFill/>
          </a:ln>
        </p:spPr>
      </p:sp>
      <p:sp>
        <p:nvSpPr>
          <p:cNvPr id="7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B20A5-EF50-4FF9-80AF-3E7A90E1F1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32755-8EF5-4E30-9C31-B44C0375EA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4" name="PlaceHolder 1"/>
          <p:cNvSpPr>
            <a:spLocks noGrp="1"/>
          </p:cNvSpPr>
          <p:nvPr>
            <p:ph type="sldImg"/>
          </p:nvPr>
        </p:nvSpPr>
        <p:spPr>
          <a:xfrm>
            <a:off x="985680" y="741240"/>
            <a:ext cx="4886640" cy="3665520"/>
          </a:xfrm>
          <a:prstGeom prst="rect">
            <a:avLst/>
          </a:prstGeom>
          <a:ln w="0">
            <a:noFill/>
          </a:ln>
        </p:spPr>
      </p:sp>
      <p:sp>
        <p:nvSpPr>
          <p:cNvPr id="7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AE4FD-80CF-40F6-868D-67C83E0F39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A7222-F1ED-4947-8986-9418EF65E6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8" name="PlaceHolder 1"/>
          <p:cNvSpPr>
            <a:spLocks noGrp="1"/>
          </p:cNvSpPr>
          <p:nvPr>
            <p:ph type="sldImg"/>
          </p:nvPr>
        </p:nvSpPr>
        <p:spPr>
          <a:xfrm>
            <a:off x="985680" y="741240"/>
            <a:ext cx="4886640" cy="3665520"/>
          </a:xfrm>
          <a:prstGeom prst="rect">
            <a:avLst/>
          </a:prstGeom>
          <a:ln w="0">
            <a:noFill/>
          </a:ln>
        </p:spPr>
      </p:sp>
      <p:sp>
        <p:nvSpPr>
          <p:cNvPr id="7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6EF38-CA1A-42FC-825D-4642998F60E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35E70-C4D0-4315-8DDC-08D6819FD0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2" name="PlaceHolder 1"/>
          <p:cNvSpPr>
            <a:spLocks noGrp="1"/>
          </p:cNvSpPr>
          <p:nvPr>
            <p:ph type="sldImg"/>
          </p:nvPr>
        </p:nvSpPr>
        <p:spPr>
          <a:xfrm>
            <a:off x="985680" y="741240"/>
            <a:ext cx="4886640" cy="3665520"/>
          </a:xfrm>
          <a:prstGeom prst="rect">
            <a:avLst/>
          </a:prstGeom>
          <a:ln w="0">
            <a:noFill/>
          </a:ln>
        </p:spPr>
      </p:sp>
      <p:sp>
        <p:nvSpPr>
          <p:cNvPr id="7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97949-E48A-49BE-8B80-9AC9596AAB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AB814-4540-4682-BC0B-B04E5F8EB4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6" name="PlaceHolder 1"/>
          <p:cNvSpPr>
            <a:spLocks noGrp="1"/>
          </p:cNvSpPr>
          <p:nvPr>
            <p:ph type="sldImg"/>
          </p:nvPr>
        </p:nvSpPr>
        <p:spPr>
          <a:xfrm>
            <a:off x="985680" y="741240"/>
            <a:ext cx="4886640" cy="3665520"/>
          </a:xfrm>
          <a:prstGeom prst="rect">
            <a:avLst/>
          </a:prstGeom>
          <a:ln w="0">
            <a:noFill/>
          </a:ln>
        </p:spPr>
      </p:sp>
      <p:sp>
        <p:nvSpPr>
          <p:cNvPr id="7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C1027-FE20-4A24-9A9E-1F7BF20102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E9D8B-A53E-42FC-A87F-791D0BB552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0" name="PlaceHolder 1"/>
          <p:cNvSpPr>
            <a:spLocks noGrp="1"/>
          </p:cNvSpPr>
          <p:nvPr>
            <p:ph type="sldImg"/>
          </p:nvPr>
        </p:nvSpPr>
        <p:spPr>
          <a:xfrm>
            <a:off x="985680" y="741240"/>
            <a:ext cx="4886640" cy="3665520"/>
          </a:xfrm>
          <a:prstGeom prst="rect">
            <a:avLst/>
          </a:prstGeom>
          <a:ln w="0">
            <a:noFill/>
          </a:ln>
        </p:spPr>
      </p:sp>
      <p:sp>
        <p:nvSpPr>
          <p:cNvPr id="7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75BA9-F942-44D4-96A7-7069A5B6BDA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28C69-4007-45E0-AAAD-00048C44E2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4" name="PlaceHolder 1"/>
          <p:cNvSpPr>
            <a:spLocks noGrp="1"/>
          </p:cNvSpPr>
          <p:nvPr>
            <p:ph type="sldImg"/>
          </p:nvPr>
        </p:nvSpPr>
        <p:spPr>
          <a:xfrm>
            <a:off x="985680" y="741240"/>
            <a:ext cx="4886640" cy="3665520"/>
          </a:xfrm>
          <a:prstGeom prst="rect">
            <a:avLst/>
          </a:prstGeom>
          <a:ln w="0">
            <a:noFill/>
          </a:ln>
        </p:spPr>
      </p:sp>
      <p:sp>
        <p:nvSpPr>
          <p:cNvPr id="7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2C873-2CD7-47DB-BA22-2E1A978158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C0E8A-C61D-4E68-A67C-BA1089E411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8" name="PlaceHolder 1"/>
          <p:cNvSpPr>
            <a:spLocks noGrp="1"/>
          </p:cNvSpPr>
          <p:nvPr>
            <p:ph type="sldImg"/>
          </p:nvPr>
        </p:nvSpPr>
        <p:spPr>
          <a:xfrm>
            <a:off x="985680" y="741240"/>
            <a:ext cx="4886640" cy="3665520"/>
          </a:xfrm>
          <a:prstGeom prst="rect">
            <a:avLst/>
          </a:prstGeom>
          <a:ln w="0">
            <a:noFill/>
          </a:ln>
        </p:spPr>
      </p:sp>
      <p:sp>
        <p:nvSpPr>
          <p:cNvPr id="7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54F7E-FCC2-4C92-B0BA-847A5EF8260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A51D0-B50D-426D-8B55-A18263701B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2" name="PlaceHolder 1"/>
          <p:cNvSpPr>
            <a:spLocks noGrp="1"/>
          </p:cNvSpPr>
          <p:nvPr>
            <p:ph type="sldImg"/>
          </p:nvPr>
        </p:nvSpPr>
        <p:spPr>
          <a:xfrm>
            <a:off x="985680" y="741240"/>
            <a:ext cx="4886640" cy="3665520"/>
          </a:xfrm>
          <a:prstGeom prst="rect">
            <a:avLst/>
          </a:prstGeom>
          <a:ln w="0">
            <a:noFill/>
          </a:ln>
        </p:spPr>
      </p:sp>
      <p:sp>
        <p:nvSpPr>
          <p:cNvPr id="7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54EBC-3E58-439E-945C-D103055260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0BF34-5BA3-4E3B-8122-757A6E4E34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2" name="PlaceHolder 1"/>
          <p:cNvSpPr>
            <a:spLocks noGrp="1"/>
          </p:cNvSpPr>
          <p:nvPr>
            <p:ph type="sldImg"/>
          </p:nvPr>
        </p:nvSpPr>
        <p:spPr>
          <a:xfrm>
            <a:off x="985680" y="741240"/>
            <a:ext cx="4886640" cy="3665520"/>
          </a:xfrm>
          <a:prstGeom prst="rect">
            <a:avLst/>
          </a:prstGeom>
          <a:ln w="0">
            <a:noFill/>
          </a:ln>
        </p:spPr>
      </p:sp>
      <p:sp>
        <p:nvSpPr>
          <p:cNvPr id="7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9A63F-34B7-42CD-89A5-C0A40E1D6D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44EC2-D673-408C-BC3C-80A4F0B4C2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6" name="PlaceHolder 1"/>
          <p:cNvSpPr>
            <a:spLocks noGrp="1"/>
          </p:cNvSpPr>
          <p:nvPr>
            <p:ph type="sldImg"/>
          </p:nvPr>
        </p:nvSpPr>
        <p:spPr>
          <a:xfrm>
            <a:off x="985680" y="741240"/>
            <a:ext cx="4886640" cy="3665520"/>
          </a:xfrm>
          <a:prstGeom prst="rect">
            <a:avLst/>
          </a:prstGeom>
          <a:ln w="0">
            <a:noFill/>
          </a:ln>
        </p:spPr>
      </p:sp>
      <p:sp>
        <p:nvSpPr>
          <p:cNvPr id="7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69A1F-0E90-49D7-89ED-BF46696531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8CD28-A703-4F6E-B48B-65047A7517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0" name="PlaceHolder 1"/>
          <p:cNvSpPr>
            <a:spLocks noGrp="1"/>
          </p:cNvSpPr>
          <p:nvPr>
            <p:ph type="sldImg"/>
          </p:nvPr>
        </p:nvSpPr>
        <p:spPr>
          <a:xfrm>
            <a:off x="985680" y="741240"/>
            <a:ext cx="4886640" cy="3665520"/>
          </a:xfrm>
          <a:prstGeom prst="rect">
            <a:avLst/>
          </a:prstGeom>
          <a:ln w="0">
            <a:noFill/>
          </a:ln>
        </p:spPr>
      </p:sp>
      <p:sp>
        <p:nvSpPr>
          <p:cNvPr id="7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A549C-E54E-48A2-B3F0-2B42B79DC5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EE329-2D9C-439D-A186-B7F16F7815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4" name="PlaceHolder 1"/>
          <p:cNvSpPr>
            <a:spLocks noGrp="1"/>
          </p:cNvSpPr>
          <p:nvPr>
            <p:ph type="sldImg"/>
          </p:nvPr>
        </p:nvSpPr>
        <p:spPr>
          <a:xfrm>
            <a:off x="985680" y="741240"/>
            <a:ext cx="4886640" cy="3665520"/>
          </a:xfrm>
          <a:prstGeom prst="rect">
            <a:avLst/>
          </a:prstGeom>
          <a:ln w="0">
            <a:noFill/>
          </a:ln>
        </p:spPr>
      </p:sp>
      <p:sp>
        <p:nvSpPr>
          <p:cNvPr id="7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8346B-B772-4403-AE2D-F84F6A52B9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3949A-943D-4301-9192-FAFA30BA36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8" name="PlaceHolder 1"/>
          <p:cNvSpPr>
            <a:spLocks noGrp="1"/>
          </p:cNvSpPr>
          <p:nvPr>
            <p:ph type="sldImg"/>
          </p:nvPr>
        </p:nvSpPr>
        <p:spPr>
          <a:xfrm>
            <a:off x="985680" y="741240"/>
            <a:ext cx="4886640" cy="3665520"/>
          </a:xfrm>
          <a:prstGeom prst="rect">
            <a:avLst/>
          </a:prstGeom>
          <a:ln w="0">
            <a:noFill/>
          </a:ln>
        </p:spPr>
      </p:sp>
      <p:sp>
        <p:nvSpPr>
          <p:cNvPr id="7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280CE-5700-43E1-8C1D-C9B653F676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543D2-F24F-4FC4-B802-7190D94235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2" name="PlaceHolder 1"/>
          <p:cNvSpPr>
            <a:spLocks noGrp="1"/>
          </p:cNvSpPr>
          <p:nvPr>
            <p:ph type="sldImg"/>
          </p:nvPr>
        </p:nvSpPr>
        <p:spPr>
          <a:xfrm>
            <a:off x="985680" y="741240"/>
            <a:ext cx="4886640" cy="3665520"/>
          </a:xfrm>
          <a:prstGeom prst="rect">
            <a:avLst/>
          </a:prstGeom>
          <a:ln w="0">
            <a:noFill/>
          </a:ln>
        </p:spPr>
      </p:sp>
      <p:sp>
        <p:nvSpPr>
          <p:cNvPr id="7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086C7-D320-4373-9A51-9F05BB82CF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525E9-EF0D-4378-A108-2C76A9033E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6" name="PlaceHolder 1"/>
          <p:cNvSpPr>
            <a:spLocks noGrp="1"/>
          </p:cNvSpPr>
          <p:nvPr>
            <p:ph type="sldImg"/>
          </p:nvPr>
        </p:nvSpPr>
        <p:spPr>
          <a:xfrm>
            <a:off x="985680" y="741240"/>
            <a:ext cx="4886640" cy="3665520"/>
          </a:xfrm>
          <a:prstGeom prst="rect">
            <a:avLst/>
          </a:prstGeom>
          <a:ln w="0">
            <a:noFill/>
          </a:ln>
        </p:spPr>
      </p:sp>
      <p:sp>
        <p:nvSpPr>
          <p:cNvPr id="7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05819-40E6-45A1-A170-2438AB961C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1DD07-50CA-45D2-94AC-CE454F74D1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0" name="PlaceHolder 1"/>
          <p:cNvSpPr>
            <a:spLocks noGrp="1"/>
          </p:cNvSpPr>
          <p:nvPr>
            <p:ph type="sldImg"/>
          </p:nvPr>
        </p:nvSpPr>
        <p:spPr>
          <a:xfrm>
            <a:off x="985680" y="741240"/>
            <a:ext cx="4886640" cy="3665520"/>
          </a:xfrm>
          <a:prstGeom prst="rect">
            <a:avLst/>
          </a:prstGeom>
          <a:ln w="0">
            <a:noFill/>
          </a:ln>
        </p:spPr>
      </p:sp>
      <p:sp>
        <p:nvSpPr>
          <p:cNvPr id="7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181BB-ED95-4F82-9CEB-94B557A97E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3A981-3215-4306-ADEA-A5BBC4FD78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4" name="PlaceHolder 1"/>
          <p:cNvSpPr>
            <a:spLocks noGrp="1"/>
          </p:cNvSpPr>
          <p:nvPr>
            <p:ph type="sldImg"/>
          </p:nvPr>
        </p:nvSpPr>
        <p:spPr>
          <a:xfrm>
            <a:off x="985680" y="741240"/>
            <a:ext cx="4886640" cy="3665520"/>
          </a:xfrm>
          <a:prstGeom prst="rect">
            <a:avLst/>
          </a:prstGeom>
          <a:ln w="0">
            <a:noFill/>
          </a:ln>
        </p:spPr>
      </p:sp>
      <p:sp>
        <p:nvSpPr>
          <p:cNvPr id="7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4500D-8416-4B4A-8578-6C54BEFC18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AF49A-6B15-4D69-B00D-215E549283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8" name="PlaceHolder 1"/>
          <p:cNvSpPr>
            <a:spLocks noGrp="1"/>
          </p:cNvSpPr>
          <p:nvPr>
            <p:ph type="sldImg"/>
          </p:nvPr>
        </p:nvSpPr>
        <p:spPr>
          <a:xfrm>
            <a:off x="985680" y="741240"/>
            <a:ext cx="4886640" cy="3665520"/>
          </a:xfrm>
          <a:prstGeom prst="rect">
            <a:avLst/>
          </a:prstGeom>
          <a:ln w="0">
            <a:noFill/>
          </a:ln>
        </p:spPr>
      </p:sp>
      <p:sp>
        <p:nvSpPr>
          <p:cNvPr id="7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8BABC-ED13-4797-971C-A50169700D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43F5C-AB3E-4826-B32C-1EAEB62A18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2" name="PlaceHolder 1"/>
          <p:cNvSpPr>
            <a:spLocks noGrp="1"/>
          </p:cNvSpPr>
          <p:nvPr>
            <p:ph type="sldImg"/>
          </p:nvPr>
        </p:nvSpPr>
        <p:spPr>
          <a:xfrm>
            <a:off x="985680" y="741240"/>
            <a:ext cx="4886640" cy="3665520"/>
          </a:xfrm>
          <a:prstGeom prst="rect">
            <a:avLst/>
          </a:prstGeom>
          <a:ln w="0">
            <a:noFill/>
          </a:ln>
        </p:spPr>
      </p:sp>
      <p:sp>
        <p:nvSpPr>
          <p:cNvPr id="7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CF118-15EE-4201-B1B4-61D6B0D7B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B589DF5-C967-4B1C-A01B-173629FBB9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28AF6FD-8F1E-4AB5-B7C9-9D8E9AD09FA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714FD7E1-A36A-494B-8B69-81054BAF53B7}"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04AC0EC6-07DC-4239-92BB-299E378DA712}"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6260CD93-4B9B-447F-A70B-B0474F4887FB}"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FE2AB70B-63CE-4CD0-8BF1-AF2DF7308D8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4ECB23A4-CEEA-4DE0-9A2D-9D4AA1998FC8}"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8F70A0D2-C495-4454-8E62-96261BF94469}"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410E2E72-FF4F-4D82-8EAC-9A9D002CAA1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EAE31B85-E86C-4E1E-8265-BCBEAD806F05}"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FD248F94-BD7F-4E14-A19D-1EBF789E6F02}"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9757A816-561C-40A3-9609-D7EF44DC96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E0711DE-D429-4E9D-8E7B-607C4089336D}"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B553039-4B18-4421-9B9B-12B3A45F54E6}"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B03220C-1803-4FF8-9DC8-4DDE0A2F67D9}"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EAF4E3E4-3C9B-4119-8256-FCE3C3867B7D}"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61B40C57-C747-417F-857C-3D2C440673B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9C65B67F-E4BC-49C8-A67C-FA24F72B8821}"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180F10AC-0AD8-41AF-87E4-9961A0C4D94D}"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6E8A829-5247-4943-B8FA-67C7E1DB69F6}"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1478E72-8307-4E6C-8F39-4EAF2754B551}"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726AD06A-AA04-422D-97D6-E20AEA938580}"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49099DC2-709A-44FE-A81C-83F63DFDB4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AABF51C-9301-45A1-A803-51E1C2487C5E}"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56C8FEBC-0E61-467E-8149-0F77D2B3763D}"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95AE9D11-7069-42B0-AB45-73EE5F1B0697}"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5AA0D8AA-473D-4106-B834-C4E51548672C}"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2AE1851-1C50-4A8A-8355-0C231B2A9AF1}"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FA24133F-BC6A-44B5-A385-0013B73D8218}"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2A1DD372-70DA-4C21-BC0F-F479356CB0F1}"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8D16A327-5A9E-4E39-88C1-2E6C635A45AF}"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3D42AEB-8839-45CF-8C90-FF8D66E50E1A}"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B8954288-CDB1-468B-8755-C8EA545302D4}"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A79DC9B-B63C-478E-994E-F804E7AB35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17FF3E1-5B1C-4251-A9F4-B708C00A3759}"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CBD0026F-6DE3-4D8A-BC40-22AC9969C0C8}"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D304661F-2EBD-4417-84E1-CDFC8ADB7088}"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3A9996F0-44A5-451C-9CA6-4EF563AC3E0A}"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576EFEF3-FF90-455D-A474-E64181E741C5}"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1889917D-762F-4A50-83E9-48CC311BA37B}"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31606E26-362B-46A9-ADCC-DE99700EE462}"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8F7F1E9-B794-4F98-A375-E831FC22EE71}"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657A7479-D546-4A2F-8B2C-162AF2456443}"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B47DF94F-7697-4225-B9AA-576BC9CAAF83}"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B172AD3-C768-4EE2-87E7-0E251C4BF6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1C41848-D4F8-428B-8379-4FBBE8BE0330}"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2015EC4B-8FC7-43A1-AE03-BA2C12AACD1E}"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B63641B-03D9-4C7F-8BC7-29682119CDCA}"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A2FB0D30-CC82-4989-892A-BF343F58CFD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F19EF102-93FD-476A-BAE2-101D54CBAC4B}"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1295445F-3133-4E7C-B90C-D608FABE0988}"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837DB830-BC1A-4F72-8D00-039D725BF797}"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BFA0AD0-A8A7-47B4-9A01-21A4B4E8B737}"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53401C5-4076-45CC-A596-362227A36772}"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42831E1F-F049-49C6-BD38-666D08AE0089}"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32F768AC-A310-4742-A430-7CEC2F8221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973FE5A-3090-4993-8F5A-39F8397D369B}"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54E5B53D-081B-4A4E-BEBA-796E80879B06}"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CF91C27-04EF-444B-A29C-59FA27401803}"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B80FEC9-45EA-4DE2-AF43-D246DE67461D}"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3D92DB8-0AC1-411F-A5CE-DB66A7F83142}"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274DB73F-0974-45B3-BDEF-30C184D7AF05}"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05D66725-2D21-4E87-972C-CFFB49F902FF}"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7F5DD542-5F1A-43C5-A771-6E6C03CC49A5}"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0DE97397-7AD1-4746-9852-9CEA1EB9B5DC}"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3D270365-B2E7-499B-AE41-322945E41D59}"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50D56709-2E3F-4F99-A82C-77F14D74BA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40A3C75-4A6C-4469-99C0-FAC6433D01B9}"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C041233-68AD-4578-9390-050C226E8B34}"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2977394D-377C-4E6D-95E1-D2844B9A18C9}"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9C78BAF1-677E-423C-95A5-81E042B03F1E}"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28CD2A44-2433-44EE-91A4-F6400EFEC74B}"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2ADDA540-8C3E-4EE8-8AE4-E281CA700C72}"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21DAD7D-2E8D-4DD4-AAC0-AD9853124DC6}"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5CB03E21-9EEC-4483-8C4F-3A363D22DBFB}"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0E5FB179-1D29-4097-8BB7-704C574F0F48}"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4804FE15-5432-40AA-A9EF-DA87344DE200}"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5DBF1BBE-2853-4EDD-829B-735B800E73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F2FA198-6248-4E98-ABB3-31D1FF1A2290}"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470FC1B-1094-4EE5-B90C-40F135971DA5}"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3E82D4EF-B4E6-45D0-94DF-6480703B6737}"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E3D8EE32-2C6C-4CF9-8714-479E9862FA9C}"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D8899B34-3541-4C1C-95F9-698DC045E9B1}"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A9E76546-5363-4DC7-B974-81FAC2819460}"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152326FA-C41C-4720-8056-53541BA46AB2}"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FFCC07ED-16CF-4AA5-AB38-CC4F4BBF4EEB}"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F3B1ECE4-FFB1-48EC-B58B-648CD4554D6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A3D819AC-11A5-493C-8EE3-9C6C3E6F27B6}"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5723C01D-7612-4B10-B6C6-0F907A09A5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AB5980E-FE57-49C6-906B-B7B22E35B822}"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6A6DF0D8-1CCF-4000-8C5A-5731051445D2}"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8EA012CE-AB2D-40D4-97A1-4D7F1EE1FCF3}"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C03FAFEE-2DB5-42F9-BE95-915C8CB69EE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FC441DC-ACEB-4203-B243-93E288F16EB3}"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FD0D7AFE-A4B2-420D-A858-7DCEEDFE0158}"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68984DA7-26A9-4D12-92A9-577178446060}"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808B3161-7023-4010-AB0B-FDCC2147669C}"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89E4242-21F3-41A5-94AA-DD9AE1CB5227}"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07F342B-F76B-47B3-8C4F-7DE322F755EF}"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32EAE8B9-9910-48E5-9E42-B2462DC48C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D8103F-42BC-4ECB-84F9-F8F7CE08F97A}"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1CE79FA8-2F58-4122-96C2-77C1B3FC8B04}"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DB395ECE-D3FB-4462-99E9-91FCF794969E}"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F8625083-88B4-456D-8ED6-6C7D1533E70A}"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B53E8FC2-C74A-470F-BC23-05F2D2FD3884}"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9E9A7C50-5E1D-422A-9FBB-B6D1EBB69F7F}"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720F539D-7645-41F4-98B1-4A635CFD1EA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29DF95A-76A7-4C73-AD2C-9A4784CA2A55}"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08F47816-70F5-4C63-9E5E-4EF05014765E}"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E88B4B15-17D4-4487-A453-21E99B444071}"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B7F6B0B6-6D0E-44F2-998A-710859C62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EB0B712-41B5-4077-A399-E2E1A68C1F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BE80B48-9FCC-4F12-A1AD-70363B375577}"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F5B3BE28-C9AD-429B-948C-5AB58E9F3C8A}"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FA3CE22-2E6A-4422-B872-04FB748EAB1B}"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7501F659-E701-4538-A314-22A6236DB679}"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E6E9ADAF-4787-4226-A85A-A2FC40613A5D}"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F8C00B32-6818-4A65-AB44-6141D6CE7A38}"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9F268694-A420-487C-BCAD-42FF5078C4DF}"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5F2C42E6-69E1-4F52-8706-D4D4E715453B}"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125EEE34-DCD7-4F14-A37B-BCBD17579109}"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F0132408-77E5-47E1-B4DA-96DD8DBE2D0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57314C32-9789-4891-85D5-5FBFD5348D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267CC2F-80DC-46F6-A1DF-7825D8218DC3}"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31595596-51BA-4C6F-B264-D8212F61ABA2}"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BF861B9-220E-4FCC-BFC0-92CE9A7C7CCC}"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2A5FBAE-5ABD-485A-BC1C-592D6CB8DDC6}"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5F92D24-6B84-4FDC-A3D5-371E7145918D}"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14CC7D72-AB08-4ED0-A092-7F3FB49D188A}"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B5360498-B746-4BCD-A275-9B1DBAC8BDBC}"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B422071C-03A0-4087-845B-C5D8E48A2377}"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21D3B023-9115-4DA7-8B1E-0C3AAB63758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983678B-DC3E-4747-98B9-38B5960800F8}"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4226EBF4-B7B5-405B-AB15-20476B066F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5F30562-C52A-4404-B839-F9AAC3E1F9B8}"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F0E08880-0760-4B44-A9DD-DAB233D2FF2C}"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1221B429-1909-4722-93BB-C7019602593F}"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95FF74F1-568B-444F-8FD8-07A52161F898}"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A23719A1-4034-4432-BE5A-0FC1644984B3}"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44E0B382-EFF2-4FEB-ADA9-6D147AC5F024}"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52B4DFE-B3D1-41BF-BD65-69E0D5A16EBB}"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8CA7A53-3236-4B6A-AAC8-956013E36FE5}"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23888840-8501-4DF8-8662-E1874BCF7A90}"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E29264CD-01E2-4C28-8F5F-D82706B1E78C}"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BEEB1E39-F035-4304-99E3-91A59F159E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072A9D9-4996-4B1B-90A7-75AD290DABEF}"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3C55CA87-379D-4AEF-8E3C-F5BA58489E64}"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6FFA94E0-29BC-4DD8-9089-C3F2AAAF0528}"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5728EEE-A7AE-4230-8632-E5676C80592C}"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B4222B82-ED91-4AC6-96F7-D367588014CD}"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9A1E5F5A-9502-41CB-BA1D-D8D768D29D10}"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1916FBC3-5BAE-4189-85D6-E03FFB52C1F8}"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A7F0194-EB33-4AB8-99FB-980EADDB0E27}"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C179A8E-6C12-4717-B2CF-C8B4B8D8EBB9}"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326A881A-0D32-4492-8B98-13BC20FC35A4}"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A32D80A5-BA23-4B91-A771-2666A934B5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36F67D9-0E9F-465F-A7AA-68AFD90FA0FD}"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2B5B8F28-7743-444E-BC41-0975B54D7C7B}"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4F861154-096E-4FE0-9634-A545772DC065}"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25428FE6-474A-499A-8976-E8D6E3EF5518}"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A487081-4BD3-4924-9669-B1E4FF73311F}"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D5FDC54-94FB-43C1-BC8C-70905AC1CE91}"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798AA510-CA19-4AFF-AFBD-C5CD8832D23F}"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C204F872-9A69-491E-ACA5-CEE2D19D4A42}"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E27AE778-DF1A-4B66-8FAA-3B50E2D11131}"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477DB585-99FC-4EFE-B937-289765CFD017}"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E18A2D77-E550-4140-AB48-35B74B3624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C46B33A-2468-4C5A-8A8A-9443E23F4182}"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40CA212E-ED0A-4484-8B2B-C62D1FA84C97}"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328AB6EC-E125-4C2B-9288-62AD9335F255}"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A0B0DBE6-1907-4618-A6F5-898545725183}"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A4B59C52-1B63-42B3-ABD0-E7018C696AB1}"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0EC82A4F-1BF1-4C21-ADE4-F22204ACEB6B}"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66E1D197-AB06-4AA0-A78E-AE761F852C0B}"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D73DBCC5-4DE8-4804-931D-0F3568DE5424}"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95EE088B-1CDD-4E5D-A765-794DACE8DFF7}"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12F2A396-A5FE-411B-84A5-8B0A567B4D92}"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54DB9D1D-ECB0-449C-A4B9-18D1C224F1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EB5C826-8E89-4D28-871B-E341DA97D6F5}"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C89F9B0-9186-4228-848D-4526C32C446E}"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E94D4B8-AD70-4799-8EF3-412986D9908C}"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69C00E08-E748-415C-B217-8926BED92E8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87336CFD-C65C-4C0C-846F-C025E399807E}"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316A9065-BEB0-4159-9B61-20289929E319}"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A258229-70C9-4F73-B32C-8CAD10D79BB5}"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CCED41A4-595D-4DE4-923C-9F6720049056}"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40AEA664-6438-4931-AC8E-298643EA0CC4}"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D91FE4AA-28E1-468F-A5AC-918DB47BBD28}"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2826D4D4-3968-4FE3-BBA4-E543789D0F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E9DD117-7651-462D-AEE3-C59289CCFE4B}"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F13CDDBE-BA6B-4034-A902-53B6B788E5FA}"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C3FDA69-7E9A-4DC7-9ACC-59661AEDAF0C}"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3E65A03-CF15-4F83-9264-A7177E9A7136}"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29CA0A06-CD66-41B2-8C3D-994E768C2E71}"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21239B66-57E2-41EA-96FE-EDCC1EC097E8}"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3DAFCCC6-85DA-4E7E-A664-AFBDE15846E3}"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4D8B6D55-8D01-4C75-BC18-2DE74D3F41F2}"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9E00E3E2-34F4-4E90-9926-02ED80388293}"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4CEF95F-8A72-46D9-9C27-36640F5F55F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D327E667-47A0-4558-B626-B2FBC33029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16640A2-5DA3-40C0-BEF4-ACF416CF3C5A}"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52453736-EE5F-4514-8F14-C14F5E1E6308}"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949A7C93-B16E-47BA-8FEE-98CF9872160C}"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EBC6F0AD-23D5-45CD-AD65-46607ABF3205}"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A00FA0EF-25DA-4ADB-945A-561E4D2C7D9A}"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B2178B90-7E56-4A40-A5C3-6F42C7CF7289}"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4476F16-F1B7-4BC0-A23C-E7E6A85AE825}"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F87A9A79-23CA-4D96-9E9F-63ACB03E490F}"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365B37AB-89FC-4210-A144-FE3760CB6AB1}"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D708EEAF-49EB-4009-8711-AA5EFB4E5DB4}"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D0B59260-37A1-4934-B9D6-F860B4D351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7A51295-8895-43F0-B091-41985043CEE1}"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3E458770-EE5D-4D6D-B3C3-D7D91872DFC0}"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75A0D4D3-7870-4F0F-98AD-98B4377268BD}"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A1C004F-43AF-4306-9D41-4D064455A0B1}"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DECE1E0D-3930-4563-BCBD-27B8D4525B13}"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A954344C-622B-48CE-AFF4-FFE943DC3189}"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357D706C-1D38-4227-8906-06E2E92412C6}"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7BA664E-F779-4E32-B703-CB498EFD7E20}"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D0D3DC8-67C6-44DD-B657-8415084CE7C6}"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6215AB5-BEE2-4EE3-BCA0-024FF1D0A335}"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2848725C-1608-4EB4-BADB-486C15CEF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B6A0C2-26ED-44A9-86C3-074DF6693E2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6E99774-198A-4239-9C58-BE04733D3C8F}"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197F314B-D6AB-42C1-B589-30040BBFDA55}"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12725FF6-A4B2-460A-AA04-CE9910BEC331}"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480A39EC-87F8-4B78-803F-BD7077FAFBA3}"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B3627DE-62E7-4258-B02F-78FE643B6868}"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68AA746-D727-4079-82A0-3DB7C4762E76}"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AE7D7D29-E3D2-409F-A6AD-E8A5E89BCFAA}"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9B824BD7-862D-4AB5-8A8D-63A26C7A0FDC}"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38B1AD7-5972-4F0B-B15E-D44BB6BE8EB8}"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02906D14-6A9C-427B-840A-85D8D6617E30}"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9D26DC1-065D-49E4-83C3-633EE8DD71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7E0B17-E24B-4EC4-842E-FF7149E688D0}"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0F0F48FA-D05E-4225-81DF-A27F4EB7CA72}"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29C5B766-6CDE-480A-90B5-F2D27FEE4C90}"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98CAE24F-DC72-4933-BC12-F6E18AC27E13}"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945BFECD-26E2-4E8B-83CD-A218B891E97D}"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7C29CA83-66D7-409B-9B63-6772D840AB26}"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5B324689-4B12-4EB2-AC96-F07252BCA531}"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048506E6-54C3-4099-B964-C34AA2C643DC}"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0327D4C4-6BD7-4465-BC67-2EA9841BAC7F}"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FA30340E-452A-41B1-86FE-B834BB14C779}"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5E828D0-BE4B-4CB2-80CA-A74B6AF773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8D1D592-6963-4EFD-BBDD-FF2A33AC96BC}"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992C437-5D1B-4C2E-8069-AF2707C01B4E}"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62871B03-C29D-49CD-929E-A066CFE81CA1}"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5F59220F-B016-4201-B353-319A57FE730B}"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20E54A4B-439A-4742-BC91-F92439AB43E6}"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CF54ECA2-557B-410B-9F47-C088718E3C87}"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85E21605-6089-42C4-A4BE-C18097D0A19A}"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2622A1E8-2CBF-4CEE-A5EA-A3C56F5C0BF7}"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A22AF73A-04DB-4818-BAE1-AF82902B4D39}"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4C317D6-2790-47D8-A87E-3B7573B25179}"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C030CB76-1EB7-44AA-8663-F659F45EB0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734D4F1-1927-4D6B-8C3F-E404323475D8}"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7313CDF1-00AE-40F1-B154-561895B0C213}"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5170160D-0BF8-4CE2-A8A9-F427773BAD57}"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2FD53D5-9838-4A1E-BC1B-BFD28FDF3EF8}"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DB77A0D-5245-4CAC-8D01-00C58F2E6B96}"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001BFFCB-BB9E-4972-9ADF-AAAFC009A12B}"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5FCCFD43-BA95-4821-AB16-9F230CC822E7}"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75752465-7E59-43F0-8041-AFBF985F6998}"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CC2A995E-8868-43FB-A221-9D1BEA7EAFE8}"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5CFA0D81-B6A9-4A23-964E-2C0AFAC8935F}"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B1E140F5-3BF0-4F2C-940D-11FD33DCED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4811C5A-758F-4675-8FD9-877CF101C559}"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6507FC3D-E0CA-4958-9AD9-E495F0E5AADD}"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66DD934F-5D72-46FE-AA38-F5B19F9C0596}"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C5C2FCA3-C823-4A0C-BF83-30F333750A1A}"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ACA9E9F-479C-4995-ADA5-1032A1D7684A}"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3CEC43E-5E25-49F6-9199-0409BA3EA520}"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E60DFD0C-7B96-463B-8C8C-A8515C2236D1}"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9C348D91-3BF3-43BF-AAA4-013719FF352F}"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93A38493-32A9-4551-A8A2-D7E33F87DB90}"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ADC03EEA-245E-458E-97ED-A2A8952E07B6}"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5847E926-219B-4559-87CD-281E92BDE2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23A12F2-70EC-458F-AC07-450FF347A6AA}"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59F3BD3-A509-4B12-932C-B6186F27ACD3}"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EDDEBEA8-694F-4FEB-8A2A-F79ED61D1B75}"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F8F7FED5-25A3-4BCE-AC48-6B41515A54FF}"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10AF6D45-4436-4C35-A638-D19379D91AAA}"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4946DAD7-A5AC-4B39-A3E8-C32BEF7258D2}"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6D97BCC-059D-4E57-BBE3-0D806E14F6ED}"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E8A7521-C846-44FB-A72E-DCA1FED34960}"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99C78A6E-3A54-41C8-B4B4-94AF4C354462}"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249683E0-8795-4A39-91B4-B2F05958DC65}"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F4DF3D64-248C-42C4-8932-391E8275F3C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0D3C9C0-4B1A-4E3D-AC3B-A040B6D1EC47}"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5E28C871-0D4D-4A7D-9830-FE1A7B974C27}"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E4067093-0095-47B5-A4C4-50BFFACEBA9B}"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B174A0D6-D1DD-42C4-8830-BE7FC738254B}"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EA2E503A-5C09-4F6B-8BDD-2472D483A66B}"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BF1A23F-03AF-4E55-840E-A9EB1E2BE4A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FD2C58AE-C4A5-42F5-9303-66D4B9FD2C0A}"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0CCD49AC-6DDC-4F5F-986C-B510522BA076}"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D8D2222-D42E-4155-8F17-7346D41AFEA0}"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BD1C07C7-26DC-4979-9799-F1B1B031838A}"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F1316E7E-23D5-4D7A-B724-0F41FC0896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A6B8633-B855-4A14-9B6C-1FD5B1E053A3}"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805EA8FF-F1FE-4B25-A0B3-B3AD46C2541B}"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11B62572-537D-4432-972C-E5707245ABAD}"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96FC554D-AB94-4582-B283-129762B7241B}"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44ECB9CF-A6BC-47E9-9942-5725B4B3E477}"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A1D8B65F-138B-4313-98E8-2C7B762CB4BE}"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879A208E-8BA6-4797-B798-67BF19CD4EAF}"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DF1C347C-2E96-484C-AE38-27BB9783CF56}"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611513D3-0FF7-483C-BB2A-0253A0F64BFB}"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DB4D3A0D-4B96-4EC7-9AE9-3B4FACE37B0D}"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C460BB4-B201-467C-814F-05F41BB2134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EF9801-B4D6-43E8-B975-FDA35A91E028}"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8472C4EA-ED4D-4A35-9E0A-0B75046D3780}"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0C8F518-9C4D-4005-9D20-8716B1C4CA3B}"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6F1F5C88-DA1E-4013-906F-7521DC2D8EFE}"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236E1FC3-FCC3-498C-98F2-41DEAAA6E8F2}"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AB44D46F-76C0-44F3-BE34-80131086B8E7}"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83A9518C-0B7B-498B-87FE-0F5AD07E9C41}"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E4B52E63-58BD-433D-BC21-C78200ADB00C}"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5E19251C-B880-4F3C-84DC-14A1B1178E48}"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2B990A4F-9802-4C14-9566-36E05B28C27F}"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7B126B74-0481-4C0C-9374-223A4AB60D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EEC858C-4A2B-4730-B438-2512987D96E8}"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498EDE61-F6F1-4AC5-933B-58222F32D0A0}"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9D1B6FE-B534-4276-B45F-BEB049C53931}"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720BA4A-61D1-4D2C-B408-1C70D346FC9A}"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A224C0B-9E1E-48F5-8F8B-171CB4B8D0DB}"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54A72EF3-C368-4B90-B774-1339C3F1A708}"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0BFCE759-78C3-45FE-A8A0-842D6546AE94}"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FE035634-2CB6-4FE1-BC14-7D718B289D14}"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2C19155F-AA87-410C-85AF-43C91DB2991F}"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E01BF87D-4665-4DB5-9B9A-6C394AFEC681}"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E76993F6-1ABA-4E0E-AC04-0CCAE7EEA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343F6E-F0DA-4A18-BD98-5B0816A24C5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D9F9A78-8E41-422C-B0DA-A0A4F22BA60E}"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ABA55CB4-3B36-4111-9700-7F16DEB0A878}"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4AFFFB2B-3EDF-415C-98EE-9F3C2247014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56F30194-8A1B-4D14-B8BD-714D64C60A85}"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DD556ED5-C89E-4513-8851-C998376BF7BC}"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A52AFCB-40E2-4953-9C8D-BC15E34BD884}"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04D6E90-F703-4A7A-8748-1655EB89A864}"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B8D1A343-796E-43FB-A90F-F8CA01C3BEAD}"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895C1244-2576-41AC-99D6-A43DFCD9319E}"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3C638566-096F-4FC4-827C-3E75171C5A35}"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1287E63A-52DC-4633-99D2-EDACDCC9D9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B554928-A385-46B8-B800-24EF9309E5CD}"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3519589C-5056-4EA7-8247-45B368404CED}"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410CE831-5F86-47AB-A591-F04CE8C16031}"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F63060CC-19C7-48C2-9B49-2C5C8A56E1E9}"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7F1C9FF3-AA85-4EAC-BC96-2CF6278AE993}"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7CB169A7-F8AD-464B-B2CE-295ECA00DCC0}"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52B793A-2FAD-4466-BCF3-ED3A4830B218}"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48911C88-6B15-43F3-AF84-ACD749003C93}"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A0490C4-5097-481B-9A6E-4CA7D95DBA0E}"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6976606C-B652-4456-81FA-CD59AB5D0B9B}"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2231C54C-F129-4FA0-8380-1471CF3490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74C06AD2-AB31-47E2-99B7-B0F544C09147}"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42FEF8A2-F131-4A6B-B293-AE697EF4669C}"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9E6A4A21-22A8-40A5-8A79-01F0F72D6095}"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279FCFF7-02B9-4B51-BC86-B439E16C50CE}"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CBB4AF89-EF0D-41CA-8CFA-0478D1D02296}"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F5B1097-9B0A-4DEA-B7FE-1CC4693B0373}"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A3CC621C-A5BE-4E71-8A0A-3265269C7F4B}"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3E9ED50-5FA0-40C3-AFF6-9C5459BA722E}"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9402A67-1FDE-4DD5-9DDA-876D4B9AE36E}"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99B8A58-44D3-40E9-85AF-833373F0C8E0}"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CF53339-553E-4BE2-AE40-E698FF4C37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0F8DF06-A64C-4F11-995F-7941692D26D9}"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21CB11FC-E0D2-40D7-998A-42088071CBB2}"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83E67C8D-FDCD-4CC9-A03F-6BEC0EC9DB5E}"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470041C0-F555-40A3-AA38-05996AC65D19}"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2D2563F5-2F49-47F6-93D6-360444DAA71F}"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96DB72C-8F5C-4502-AE9D-004416D6C00A}"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CE75FF7-37CA-4CD3-AA08-70567547C89C}"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99420A74-EBCC-42E0-89B1-F50AF5310644}"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87C5CEC2-FCF9-4835-9286-216C6673D916}"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AEA9BBC3-ED97-46A5-8CD5-20A67B897392}"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964F353-8140-4661-BD36-F46D718179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A3F35DB-D9A6-48D8-89C6-9FA8FA690266}"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27CF7A9-A8A6-41F2-B6EB-CBB1164A488E}"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73F37644-CC14-4937-BF46-1E2A703B6F89}"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55C8104E-EF03-4309-8173-446723E34FFB}"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6004A9AA-0243-4EED-AC3D-000356D2F69F}"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5007C5CA-E768-487B-B103-62C1B740273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9B86C1C5-28BD-4CFC-B86B-EF40464C4604}"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B5222821-CFD7-4902-8906-41D561CFDECB}"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DB2436A9-ECE0-45CE-A3CB-9BCAE7F20D05}"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CB69BBAE-6AF8-4FFA-9124-8CB538D7E9C0}"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04BFF41F-BBE9-4090-9DC6-3A9A0821E5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6CB7193-9AA9-4A3E-B4F6-ADA5A2582C31}"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5874994D-F6EF-4F07-9EB4-3049E2D1BD7F}"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9E97209-0219-4251-932A-A6A457E201BA}"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53D04626-7EAB-4FC8-B91A-96BC33C503F9}"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D1F127B2-D176-4CAF-B6A8-5010FE34F44C}"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83A9EE5-2521-4EC9-9E95-77082484AE4A}"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1B5A03E0-E66E-428B-81A9-582A220F31D5}"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06F364F4-4491-46A3-B7F0-2D04F16FEAF4}"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A4196201-F19C-442A-8444-25C90EF9BECF}"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A72F7CB8-B7B7-4728-862D-58A452A99294}"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645D6FA2-2E81-4D00-933B-90C6003F65C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DA398D5-020F-41C2-A031-120B955F0AB1}"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0321A61F-00A1-4E02-B86E-84739B0B320A}"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1C4C98D6-A19D-41F0-834B-12960775759B}"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2932E7B7-B23C-4394-9D17-5A79FAE74074}"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CAC5141B-CDE3-4D74-AE75-7D95CF801A69}"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CFF954C-2A30-4CF3-9264-10572D5D6F4A}"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FC1E116-3B16-4DC1-A9D6-235962E1AE1B}"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107FD4D4-A84F-43B2-8169-7E4945EC1C5C}"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F1702534-EB5D-43CC-B16D-3781B04D9173}"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B24A412C-3FE3-43A2-A653-D43DFBA2870A}"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72505725-374E-482B-B59A-75C0AD351A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0FCEDB4-82D0-47E4-BE27-A1BCEEE25409}"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AA81371-1E83-4D3A-98A1-3B9B40B5CFF5}"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7966B3F4-581F-436E-84F4-064D66AFC4A6}"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2FA051F8-B8D3-4276-9A56-EB88CFD8FB6B}"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DAC0E169-14E0-44A6-A23C-7955261ACC08}"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988917D7-7E0A-41E3-8152-DFE8DC5D2AD6}"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5C19D07-FBBD-47D2-BD11-B137781340DA}"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7EE28A2-F49D-4D33-948A-01D57391DB4A}"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625EC70-3081-425C-B4A3-0E5E290BFA6C}"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465FF9EA-8FD0-4B9F-9314-9CED6852B054}"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5C74783F-DC75-4E4A-8913-2D26C1C967A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2C823AF-AEC4-4CE4-8FD6-C2547E75BC9B}"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8F1395E0-D608-4835-A7A6-A0071593C85C}"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916F3BF5-6069-4075-BC8C-F06EAF16714A}"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3745785D-4816-4DC2-B001-15AFE386F1C8}"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AEFDEA49-78B0-4714-8C2B-826033DA5042}"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E6543AF3-FBB2-471C-BFCF-6F8022A989EC}"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E8731993-A127-4A54-B8C3-E62B9E6D0054}"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5E755CD3-7B13-4AC8-899C-3543F01EB450}"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79E4462-39F2-4881-AAF2-547A58A2BD64}"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9A59395-C450-4FA1-A1C4-29D58E88B5E2}"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0877119-ECE8-47A7-A151-2C66E25F54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C9AC9F3-7F0C-40BD-B611-60996178EE6E}"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28509C1-78F8-4CDE-B9C1-5FEE22A57EC9}"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A521E22B-2070-4B62-841F-873E21BF0A14}"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7E7475F9-F786-4A05-83E3-50EDCDF0537D}"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F167762A-0905-4F69-B57A-54207B7FC769}"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62F60BC1-AC93-4B2F-ADE1-19A180EA7C60}"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76458E67-AF42-4B25-882A-AFECF360E6A9}"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AFB584E2-1F3C-41EA-8A4D-3893A23E369C}"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C8F0D834-3751-4A3B-AEC9-4F0D484AF98C}"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2E3292C5-3B3D-4DA2-81C3-B9B429A7B847}"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850D00D-DCD5-4252-B54A-0E8BC7C211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63F7A4D-4886-40B1-8E58-EFE06D57B7C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C6D3230-F77C-4365-A284-89118E7C3E53}"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FAE5BB5-909E-41CA-B0C9-4F9AAF815D8B}"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BEE7302D-BA4D-4742-8E0C-1646CE57471D}"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2E6E9BF2-3302-47FB-AAC4-1185DB0BB4E7}"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E7BF7B3B-EA60-4F1E-8B75-99A814124E62}"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B8B00CFA-9A6F-4A16-90EB-0E8E1234CEF0}"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89F109DF-37D7-41A2-864F-C59EC5DD30AB}"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1376AF3A-F4E9-445F-BD9D-7AB103EE9202}"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0F1A04A7-F110-4217-A27A-4B0B0F785D2B}"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0F941955-F0FB-4282-8862-535ABA1127EB}"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A17B4C39-885B-4FB7-9A89-101A518B87C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4E525D3-2992-40D2-973F-11F461061154}"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4579E8C8-F3D8-4FAA-8526-6584ECAC3C63}"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6E7BE31-5804-42E9-AE6A-79D6D62638DA}"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2D2C9348-FFAD-44E6-BEBA-F693EAF2C4BB}"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83D128C3-ACE1-4301-8F6D-2A27982184F3}"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70ADD1C4-EC55-442A-8B74-2C686CE2B2AE}"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C84E1E92-C92F-471D-8C0C-A07BCB8643B7}"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089AFD0E-94CA-4F5C-9DC8-8E3E3A314578}"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A27B2848-53E1-406F-A661-F3F18DE1673A}"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21230D9D-9302-47DD-81F8-3D4ABDC425C1}"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FFDA204C-40CF-476F-B0BA-65405CDC8C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3068B5C-F14E-4E10-8D85-0205A1759F38}"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03A4E5D-9A57-4852-AF8F-F3F4E12ECD61}"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F78D8CC9-2CBD-4C73-ACD5-209F5B8EA72A}"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EE4E3E18-D536-4044-9211-C515EF5B12D3}"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BE4949B3-C720-4925-B49F-D052139EF945}"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500F261B-C191-4934-8553-E6585F0604D3}"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C1E8E906-A06D-4E26-95EE-9B6DAC8F0EA1}"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331CD229-FDCA-4B1E-AE12-1321C9EB57D5}"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AE77BC34-CBB0-44EC-8C27-6156A74DB4DD}"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F5A5B2BE-1F4D-40DB-8090-674531041886}"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80BB1BEF-8158-451F-9A3B-1904205FEB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A2BBB4E-A403-4523-BF34-B64A956F9735}"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3F154E0-DF86-44AC-8615-FDE701242232}"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E28481D-0AD0-41B3-9051-4908E954EF1B}"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BEDBBF4-4016-4C94-A435-62198A88D700}"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B3B64DF7-883E-448A-9143-E533E3D00AF2}"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B9E730D8-8C9F-4C61-9E28-5670A2500E79}"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4ABC89DF-C2B2-42E3-891A-D71400DC9B6A}"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3E54C647-C410-4541-B6BD-32400E931CCA}"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E00983F4-1792-47BE-9F63-B6DCA97EEDE4}"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63162935-D768-4A8A-AF10-368740BCF6D3}"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24F168C1-9537-46E3-ACC4-75FC85A834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08B62B7-952C-485A-B1E9-799D8AAF0E87}"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A7D820F2-AEE4-410B-9C0C-C38196A420EB}"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97A8C0DE-E820-4626-8B5B-E748E978CE88}"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B7E9A81-476D-44C2-A8D4-D1B507896E97}"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778C8A1-EFDC-4BD4-90E3-031E0F6C8C11}"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6A13DD1-22DE-40B9-8AF6-417874DA7678}"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CD62518F-A097-4538-BE95-3294283BE124}"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C2773E2F-7120-4EDB-99D8-1F978345F8F4}"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41416CC-575F-4385-8F92-B5B13A50D6AD}"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10C8CDB-8791-4887-8A88-E886355F7890}"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8D057C77-869F-443F-8671-AE54A24BAE4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755608F-1584-4CFF-8895-C0D8460E813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313DF261-BAAD-43C1-BE77-EAD7394570F9}"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829D26A2-347A-43A0-8F3C-EE4C65705322}"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B1ADCF1A-7D04-49D1-B0DA-E8E5B5DA22D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B296A968-D976-4656-BDDD-AD0C17A8F5C3}"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5BE128DF-9C0E-470A-9106-87398BE87DA0}"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EAC87C5D-985C-40AB-90D7-1C765CEBA715}"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F03A4619-6C73-4EC7-A87E-3C0D9A4C6542}"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F9D8DEBF-E138-405A-BC80-1CF0045A0923}"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40AB3951-B3D8-40D0-8DF1-DC8B2BF27571}"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F4B3A001-DD73-4922-8FB7-462AF1B95F2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ED800B2-6574-4ADA-8619-B371D3820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B9E3E667-247D-46B6-B7C4-93A16B89951F}"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A22B5C6A-5C79-4E0C-90F4-E017FE1EF563}"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B213450D-8D71-48FA-84E3-4BCA38D5C488}"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3601A2A7-C6E6-4C46-84E3-A25CA3DA764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4290DC19-8372-419A-B950-F2826DEFEC24}"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F0CECCFC-0137-4791-B060-576FE8869B6B}"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AFF7B2D3-25DF-4AAC-B7EE-27CB2391668A}"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883939AC-3AE4-4425-ADB3-DCDC07094D7F}"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4676F7F2-06DE-46A8-A34C-AFCA24DC701A}"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AE0DBC22-2E6C-4E20-BCFE-3311B79B7C4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5A83AC1-91A6-4B61-94B5-A2B571D87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D146C4DD-0FF7-460B-B3FA-BC90DCEB52D5}"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CFC9EAD-2D4F-4683-85AC-15106F04CE1B}"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70AD566-9E7B-4EB8-92D0-27F42C5CCADB}"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9591F242-9A87-4E33-B60E-89D821DDD5A5}"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ED087389-413A-4319-9CDE-462737D90738}"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6540C868-3195-49AF-B8FC-1C016B692DB4}"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2F492384-33ED-45B7-AD37-9A783362F590}"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E8C27CCB-8CE3-4027-B58D-67B9EEDFCC02}"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562FFE91-2C13-44A4-A7C9-2F943386A47F}"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008B1AED-7ACB-42FA-9099-BCB95524763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E7F09B0-2517-4420-A086-A7A3FEAF5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4E09854E-A035-46D6-9769-B52E649FBE7F}"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769781DA-25A7-4180-89F9-F5E044BD2BE0}"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31052E4C-8436-49BD-ACCC-DFBF5B0B0716}"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02A2411C-A374-485A-AA93-9B6C28960DD2}"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A4BCADE-4AF0-4297-938D-236A2B0D104A}"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F6184B1-12C8-4D04-AA31-E2B584DAFAE0}"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2807D89-4DA6-41FC-9CB4-D97A2CBAE294}"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1AD791F1-DA67-42BF-994A-15981573189A}"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2DE3FE0E-0C6E-459E-9287-F67F2E123965}"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524A8CF0-EAED-4F01-83EF-D8D5CD5D399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FD0577C-A51D-43EA-AD79-FD172E0CD6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1A547ADC-C0DB-47DA-A761-245F0EDA9E3A}"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8A65EC02-2B43-4293-9193-E18218ACE88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CBAB9A60-0E69-47E5-AD85-65F0A33F8122}"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12912516-F4A7-4BE0-AE0B-C7D3BA6E81BC}"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B6E940F2-BE29-47AA-96C4-E4522473ACF5}"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98B3224-C49E-4C07-AAAF-9C1F1D428039}"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CB5F8D80-7DD1-4341-A9AD-AA0547F9CA17}"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FDA4457E-FBC2-47AD-B70F-F6C0EA468DB0}"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4DC7F13C-80C5-43B0-A52F-F92AC2329C28}"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EA63BBAA-643A-4760-90ED-CE9EED316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272D5F-98E6-438C-A592-8383C741274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C0527F7-FD94-45C9-9461-C5AEED5ECD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AA98B088-F3FB-4971-A744-1B2661A33E74}"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A519AD01-996C-4A72-AB2A-FBB63B51C5C8}"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BF658F98-0320-4901-99FC-DFDB6100A17A}"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F9D734E0-FBD6-432B-A25B-B7EC7A008935}"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CA435536-4A33-4123-93A4-7404AA529FFB}"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D942D7B2-E2EE-4EB0-8A99-F6C6EC2D0387}"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A8DF46DD-CFEB-4342-9941-B1CD6E0F17C6}"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68AB63D-1173-4B7F-8CCD-1F71FF2F4F34}"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B24FBAF3-6BDE-46BB-A69A-3488C624EC9C}"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424BF159-79D1-4B4A-994C-4793FE8CB5E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66326D0-7E77-46FD-A68A-3B5CAA5E9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D6B6DE53-64B6-47D6-A1A9-941CEE8ED5E2}"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2A0ED123-4EB1-40E8-BF44-AC4AF11E38D8}"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DB1D67D6-EFD3-4457-9D78-F3E3A4845243}"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C8C6D0FC-00B3-46B0-8CE4-05218375097F}"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A15B489-884B-4D68-AD74-5AF36EC1C981}"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835648CE-2C78-41A1-82F9-6049205EAD72}"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E7D5381-E392-40C3-910A-3A8B2E31FB23}"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14AA03AA-5697-47EF-A1FE-0947A5F196BB}"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EF44FD68-0D53-4120-9EB2-6FA67C49FDD9}"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E52FD7F-84EF-4D86-A84D-34A5DAA5745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0DD7497-8533-4B3F-9FDC-31A5E9DCD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EE52662C-2EB1-46EE-8409-8B6B81D7BA20}"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BF9EE1C-CE5C-4DB0-9CE8-B5A29FE240D5}"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9888DD56-D0C1-47D2-939D-8EAE55942CBD}"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597C2D93-7693-429D-94E5-20E48BD76512}"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E14A787C-EA01-4451-95D2-017CA38907EE}"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27F7A202-D4C2-4243-A8AB-7D9575D10BF0}"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42B7BA5-6570-41EC-86C9-C97B76CD0585}"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F8F55797-0944-4BB3-8164-CF6608012F7E}"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AB47E534-3DDF-412F-97C3-532BB28AAA0F}"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8B87C815-02C2-408C-9279-2AB67EBAA60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FE51CFD-8AD3-4DFA-9D06-2004AE894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636BDA55-639C-45E4-A5B7-B071E7F65B66}"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4C675F63-8E51-4F8C-8A08-81F8C65834F0}"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AF9673A-609A-4D62-BB78-92B98B3AD5B0}"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3788B31B-DAAA-40D3-8C60-A810DE890A1E}"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4C1B7D53-BF70-4075-ADE7-BAA998A959D4}"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5BFC1CD0-A87E-47BF-A30C-977451F075D6}"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B2192D67-75A0-4E41-8915-3EF8BFE78DC1}"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92307CF8-E595-4C1D-B4EC-935F7EAED868}"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CEF0CC6C-D11A-467A-9B6D-106C9AC73F9E}"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A882813A-1772-4AD7-AA72-F123F526B34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BA7CBF7-B969-49C2-8E83-B5523D85B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96D3F83A-0D07-42D1-9932-5D021DDE5341}"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A72D511E-6F7A-4C37-8C55-D5A09FE463D8}"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C59041BA-348B-4BE2-8E26-A5CB319F5ABB}"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B398D90-A9C6-45F8-BBB7-4250613BC6EA}"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EB9FD91-0730-4EB9-8EBB-5869EAAA470A}"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FAA6D03-A710-4DEC-9F41-AEE27C3F4EC2}"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4B709EEC-0DD7-4C83-977C-2829B3F3D118}"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52DE3AA5-C715-4EBB-A95E-24734CF538DE}"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3C7D6293-CCF3-4166-8CC9-77E6F9265B3D}"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0AE28964-77B8-47E8-BCC2-AADA35F215C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181B02F-DCA8-4C6D-892C-D0C270A8A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0E1F73F9-7265-4BA2-81B6-BF1FF0363C34}"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9EE65DA7-D4F7-453F-88AC-F4C05726E508}"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A23D8002-788E-40DB-BA00-8470DEC12F06}"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E40567A7-4A55-480D-8BF8-AF76AFCF91FD}"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552FDB3C-888E-4332-9335-257690CE72F4}"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270325A-0B1D-4470-B056-E06E2437F817}"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60DA566D-0F4F-4B05-92FA-73E5AB086EB3}"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7F46777-9791-4FA6-984B-622901F8C1F9}"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F8F868CE-27D4-480E-940B-4DEF9903A3D9}"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AFF93216-5AC2-4131-A4F0-94EDD278E2F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7615658-DCBA-4430-AA05-91C55D5242C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D1709952-B507-4AF4-B44A-F4C01B502062}"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10299992-F3F4-44BD-BC59-878A964F5576}"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E94FAD34-B727-4407-AA78-947AA84E3CFD}"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D6C17589-E4F0-4D60-860F-C674C22B67B3}"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4CF70AFC-1A91-469C-B227-015241690361}"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1ADA35AA-34F5-453C-AD29-3531C546ECDC}"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8FBD33EC-7A93-45A9-87FC-6537B9EDFC0B}"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5C1081C1-2AE4-45AD-837D-DA139D6D68F5}"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A67D020-B7C2-47B8-8374-25D3066D92D1}"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91B53F3-A2AD-42ED-9521-F360BB496E2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6A03772-DC3E-4342-8522-043E002974E1}"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F19A0835-6652-41BC-B4AC-DDB968C366D2}"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8B706EE7-FCA5-4F0F-92F2-52C938BFBF1C}"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CA17DC2D-D7A0-450A-9011-FDC0869BE7A0}"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B45BC183-0F62-40E6-A477-1D41CCEA5B59}"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44DFC53D-FB37-417C-9E31-D49677DB3048}"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3F98D5BF-E11E-404D-B285-3038C975B292}"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34E86C85-2D03-4812-AF4E-BE808074A27D}"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710334AE-AFA5-4AC8-AC2C-C96C0348C3D9}"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65084DD9-EE56-47E6-B7E0-7DAE2EA7EBF3}"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ABDB7FF-E190-4110-BE74-87BF490274E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EF5C3C60-3F7A-4208-8830-DE18F3799578}"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DE164ADE-7B24-40CF-A574-C529631552B9}"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D77E8FEF-B5D3-4884-9A65-6C669D24E0C3}"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B7411CB4-B4CD-4A46-B8A6-0FE36A7AB588}"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E886D170-A836-491B-A939-0F7B74C88EEC}"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AF412233-91C7-4E45-B298-69949BA5F209}"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E3EE80C1-DCD7-4C11-8DC3-5EDBBCBA9E6E}"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DD2348E-B3A8-45D3-926C-BA716748945F}"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270185DB-34EF-4C49-8356-0F98BC1A2479}"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B8B98727-82DC-4D9D-8363-376BB7C30150}"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EA47D198-C359-4DEC-BB5E-6574AA880C4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29E79BFB-6F19-4BAA-8950-CD67D702E6BA}"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810E74C7-EFBA-4312-83BA-8C8899CFBAC7}"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5B91C75F-FC5C-4A2F-A14B-3F589F8C1F63}"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E1D798A-5631-4CFF-A180-AEB728693B92}"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CB4B062-CF68-4CCE-8CC9-0D5D034E4720}"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B1F98305-F2E3-4477-8F1A-253F81893D45}"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153CD9CE-181E-4A81-9E34-F601D726096D}"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94778F29-BEAD-4C58-8ACB-3B7E9840CA04}"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9D136444-05F7-48AB-990B-6915B43AF03C}"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34B7854E-BC54-4604-B446-B6272DEF330C}"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E08F9293-0BB4-4F45-9A2C-58E8EE9D0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3EFEAA3-1BA0-4787-BCF1-E50B3D07D1D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9061639-C61D-4B2B-A346-A246BA98CC98}"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8A1B8AA0-A0C8-4D15-BE2D-B0EEC9C73098}"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B70F2298-F448-459C-A535-36BAE0FDAD8A}"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0EF4C047-1BE5-4F00-87E3-5EC528B2F5FD}"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0C206E9F-E4EF-4683-8EA0-F228DE98C1FC}"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DD9D86C-7BEA-4BF1-B780-429414DBB1A8}"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21DD406E-1326-46E3-8611-FF8AB6590B07}"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2BC3037-D005-4588-AD0C-C2795878AB6A}"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B3C31395-FF2F-404A-8C1B-B824C7AC2C70}"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F535BCE5-555B-450B-9A43-E063BAB848F8}"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F27033E2-6D1D-47E8-9AA7-043038589C9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EC987B7D-A6D8-488E-A5FB-F1D5B30DD202}"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81218A3-8322-49C8-952C-5EE44EEECDDA}"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03D5FC80-832B-42A8-9B6F-B27D52BBB2C3}"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1F273CB7-2A9A-42E2-A3F8-14E4B678C982}"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C9C1A74E-3789-4485-AD17-2B4550562F43}"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E69B23B8-6C80-433F-9417-3890EEF38FBF}"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0B16C2F1-E48E-4FD4-8017-76853F5F3016}"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415D4700-86BE-4418-8D6A-B1B53FFA977A}"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E8A6977-85B5-408A-BAE4-24F04333AFB1}"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B174B2FD-F2CB-4D93-BA22-039CD43E9590}"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49E42C80-B1E7-417C-8BA6-4D863E6FE6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DF4629FC-DC09-4CD0-9DCA-E7BEBC3B2CCB}"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D0BBB9D0-5BA3-4ACA-8A45-7B19E53DEEB3}"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20929BF2-AE89-44AE-B382-BA6FE85A9C58}"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85EB2C0-B524-4B92-9A10-D5868C150D70}"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8F2C0A20-2068-4161-BF1D-27E1AB7DA0E5}"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D03EDEC4-E220-436C-B9B5-EEAF255C3FA4}"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6CFB7963-2324-4E37-85CC-A2999D0D495C}"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3F0A368E-4BB3-4D21-94D9-509DEBDFC5F6}"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43B6E67-9850-4B17-BA2A-5548B4DFE64F}"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37107D9-F634-442C-A2C1-5E53DB051C40}"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01BAF05E-595E-465F-AA95-A7E5BCA160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76CE8FC-6F57-41E8-9A20-75EC8A89EA0F}"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BEA69296-8804-47DA-A44B-ADC421C433AF}"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95595A31-EBD5-48B9-87C6-0E93B489144F}"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49D6D501-7FD6-420D-A87C-23D1E4BA5D12}"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22A08DE8-99A2-4EF7-A80E-411B4A039D07}"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29D752D9-1121-4E1F-8254-4A080FCFE1C7}"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36598F1B-C891-4154-AFFF-C6D72CD324AF}"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771539FE-7380-4A43-843C-1EAAC0F4DAAE}"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F01D09C0-A5CD-4588-9488-E69DC7DAA9AB}"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9D28D532-C140-4F1D-8030-1E82F67F0000}"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B41AB529-6CAD-44C7-BBC7-4216D1C62D8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644753B-7968-45C6-BA56-DEDA82D61930}"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405AF1C-48E8-4938-9DBF-F031A0338EFC}"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51CC2073-1AEE-450A-9F5F-5575EB749AF9}"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43314A07-B0EE-480B-A40A-F71393778F1F}"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663CE42F-9DBC-4BE3-A8A8-7323A7ABEDE9}"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66E74913-83D4-4974-BAA9-359D6D8A6A6A}"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732E9A8D-74C4-4052-84E7-D8FF8372BDBD}"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7B05329E-8880-4EC3-B9B4-84D4C3ABA032}"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EE21FAED-962A-49A8-9E11-86F734A99534}"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1043AF36-B081-4332-880B-C8F30516CD3C}"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BB3B7F2E-5338-4F25-BE40-3D14452CA75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B421C59-E011-4E65-B489-8FA80BF93866}"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53D38AC9-C6E9-4D86-A400-8B001C72AC09}"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E19865F-F535-4A13-89E1-BA4156D926A5}"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E8894C4-B0DC-4B8C-8149-A35B8E82679A}"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553A5E6-8B33-4D60-86DC-EBD6A8BF63A5}"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84058B5-94FB-496D-A054-530EAC0C13D1}"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DD42C728-0880-43D3-88DE-8BC8CE74AAA8}"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5663C8AC-B87F-4504-9F84-C2B0012DF122}"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09DBC631-6BFC-4C9C-B1A4-EDFD7AA6F98C}"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27869D7C-CBC1-437D-A397-21C3BDB6C3A9}"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8895FFF2-F2CD-4A84-ADAC-2DB7157C72E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8D8AFA8-23F3-45FE-9143-505DE74D519C}"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A4DE0CA6-C1B8-4E03-A059-2FA1652495BB}"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CA04AA4B-7342-4E74-9EC4-E63D32D6252D}"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FBCB2F1C-CB7D-481D-9DBA-4C7487EAB62F}"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FA69BCA0-E8BB-4944-9F68-6D8AD4F210AF}"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F9D5D2E-EA5D-413B-964C-A556E8CE1FE4}"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008C8F72-D7D0-480F-A21F-59B26403FFB0}"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66F2F38B-FD64-4C69-9BC6-2D19F3DAAB08}"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C1E7EF9D-FA36-4769-8C4A-7BEE56DCAE37}"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4857149A-D02F-4966-834B-A22A3CD0D263}"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C4712BB4-42D0-42D4-8423-8EC60AFE809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B2D58762-CF5C-47D2-BBE1-C762168BF666}"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3E5D748C-8C96-4B18-A099-09478960451E}"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5035712-D936-426A-BE1D-5C611C8FAD6E}"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1E48F70E-98DA-466B-B984-55829C66B451}"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406D22C2-0774-4309-A4F0-41B0DB59FB8A}"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A6A5906A-2E79-401E-BC1B-1CBB4D9108DB}"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D74B4557-CD1D-4A33-816F-0AA1AEB6D860}"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76659BF6-8CCD-49E4-90E9-106FC7E2FC9B}"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45DC884-8437-432D-86C0-CE9DF4B0F35C}"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B206F1A1-956D-4963-8E5E-D96943BF74F6}"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594BE3EF-EE25-439E-ADBB-82C2F4F434F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5D3D020-906F-46A2-802A-E466CEBE2CFA}"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2B1F823A-EE39-4D57-B6E1-371EA09C5170}"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B2C7161B-C676-4D36-A920-493E5DB127CC}"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AD2D9CC8-6CD4-456A-B3BA-86AB8125B521}"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7059CF95-E49E-43F9-BFB0-020616852484}"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A559C66-9EC8-4329-92E3-1BD9418BBDE8}"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1B129022-DB97-4D83-A6ED-B97A13F4E998}"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5AF6355D-DA44-4D61-A391-0D9FAC7705F8}"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0920D7E9-FDC1-4022-8B4E-05E9192AF261}"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743F15E9-F8D1-4BE2-A8B1-3C3748A0527F}"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FE55A6E-EDF2-49D2-BC67-8A2FC4AE108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C1AEB7C-7744-42BC-B2A1-674BB8D5CF09}"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1AE56C2A-87C5-4885-9C19-A6BDD6B7C4A1}"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A01CAE7D-2BAF-4079-BDE4-8FFA67F236FF}"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E763C17A-AF0C-4C5B-9D3F-A724AF154573}"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3EF8EC22-7BAD-4BFE-9BF1-805841A5918F}"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FAEFDD79-687A-4E80-A2E7-049F9C61C779}"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2507666C-92BA-404F-ABB8-E3DF8F169F9D}"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8C13AB12-43D9-4999-8CD2-BDB9095C23FF}"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1F559C6A-76AA-42BA-87EC-56A274AF1D00}"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1D242D2D-E9DC-4FD0-BC7F-F84B27716BFF}"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CE9A2B35-2EAF-4920-9705-450F78E520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6C90501-B6F3-4BE2-9B33-FA4CE442BBC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9659128-235C-4771-A890-BC1503529CA6}"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60A2B3D-031E-44BA-9A09-415B87234407}"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FE1210FA-3326-4B98-B1AD-6F085985E1F2}"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9ED332F4-055F-435B-B434-B04A195820ED}"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892E74C3-6EB7-4885-8C51-91213BBC6655}"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3B0CF89F-40C2-428E-B56C-3DF79C5E6AC4}"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A40CEF3D-BA36-43DE-A5C1-6812B97DFE45}"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CFBFCC3-3EDC-493F-8548-BA060F06106D}"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C11E4F60-777E-4DB3-9B0B-3F7A6FCD4C6F}"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B071560-C45A-4549-9DCD-8A1104757DCD}"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FC58FD1D-0A29-4663-805F-60463EA412E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E93E135-D58C-4CC9-83E8-609E19987052}"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31D1A64F-0D7E-4B1B-AB01-E8F6C15F48A1}"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50A470B-20AC-4FF2-BB8D-17F361EB827E}"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DD166087-CA99-4713-BA9C-D316ADA13270}"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2AB16C6-44F9-48CD-B8B3-1DDA7B0429DF}"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0062F843-4768-43E0-BD90-258CAFF9D8F6}"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437C7192-9F0E-4409-97EC-80C5AB722096}"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D0EA1E07-0DD8-44A4-AEAF-7693661E3889}"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B22C8480-7533-4494-89C1-60D88419AB43}"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B2EC556B-3DEF-4006-9F64-5755E41829CE}"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FBBED719-B04D-4672-BEEE-ACE5B6C2FC9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E376110-CCAD-4D77-AE3F-42962A5F1F70}"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9DF037F8-6C25-4B59-A493-7CA2880A4C1A}"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6A6532BC-E2D0-4927-8208-7BB43B4CA3FD}"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053EC818-D04A-4DD7-9050-08A81CC6B3C6}"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E7EC720-493E-40D9-A1AF-C2710685F7DF}"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06BD125-5C1F-441A-9FF3-934265BE6E2C}"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2656CC14-6F90-4A3B-B72F-B9D04CDEC71D}"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8831978F-A5C4-42D6-A6E8-2E7388B75491}"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B401A5EA-2B97-4907-BB57-968E42858C12}"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C8064CF7-4F01-4BEB-B257-C18EAB93CEB0}"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A0B8FE76-247E-4025-8898-9212581111B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6C6A5A09-5592-40F9-A60D-6BB25B5BAAE5}"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3B6209F4-28AC-4F86-9DBA-EFF4A4720524}"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62CE5B72-B765-4327-A366-F617E274D1F6}"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561BA337-2A88-4BB2-AA79-5F4683BF8B40}"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ED55C6D1-7445-4F21-9C83-92F48B400F9D}"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1DF40466-F2FB-4B29-8174-DFF92A6627B5}"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B8E95E56-B469-440B-BB93-6E191800F6BE}"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E88E378-C2EC-436A-A9DF-66ADED139629}"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5F78F6C-AA4F-4FCB-AE1F-B2FDAF21F577}"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44E671E5-C3F2-407C-BDA2-1E976C1CB839}"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F0C058A8-789C-4D0A-9F5D-2C29A388EE2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35F53AD6-B07C-44BA-B0F2-450357833B58}"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8A90670D-1AFC-4A79-8F49-8E509F7A0FAD}"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13DF12E6-44E3-4EB3-823C-8EF42205FD21}"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C5EF82C4-4037-4D38-B9CC-917BA0BBF624}"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73F0A42-82B4-4826-A629-6B5DD1325E4F}"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DFE81B75-0E7C-4B0F-BED3-34241EB9D85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1974EB5E-4DF2-404C-ADB2-F76584AD30C3}"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C8BA00E6-5980-4DF9-9112-92BE859343FE}"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678320D2-01DB-4299-B9E6-6113FE78228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83FD08B-9730-40AF-86DE-92D195AE738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E5616FF-8615-4B2E-A30A-399E69B652A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A2D1BAA-CBA9-4A9F-8270-B849BD56C8EB}"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EAC51C4-6060-4E6D-97FE-DA573E199FE2}"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C168C97-A2E4-42E1-8D00-D53A2F2FF16A}"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7E199964-32FC-4D09-89E5-AE19ED719AE0}"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B5F7462-0307-4381-ADB6-5EF456B18110}"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31D9306-DD60-47BA-BD6D-F79C68C77817}"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A83C74F9-FEAC-4AA5-8914-719DBE9B93C3}"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3BC32AE4-E1E2-4E9F-9938-E322432BB55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84555888-1D3A-40E4-8B66-8DB646C3A61C}"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2BE5F967-2426-45BE-8F10-E995026D8C59}"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20AADD7-7A5A-47D3-92ED-98787821D94D}"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04958F6-3FD7-4DA4-8E1E-664E1EAE0EB6}"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41127BB7-AA31-4F97-AE9A-60237E30A8D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206622BB-6E92-4C23-BA40-A1D52A9DDB2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2CD9416-3D3A-4CDE-9A85-553E0C9417B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03D97DE6-0F92-4ACF-851B-C900615B4F8D}"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96BFD015-C68E-4D7D-9F31-9682FE29FE7A}"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85B5E798-B17D-4335-9297-B4E435840A16}"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741012F8-61B0-4AAB-A11E-CD7320FCDC0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09020823-5754-4A96-8A91-0DCDC3F596A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74C2167E-B057-42FC-8E9B-AA5555C3EE9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5CA5F496-2467-4706-9E6D-E3C7FB3B78E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393C3A2-F265-4316-B4F8-BFFEDC021736}"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0D8DD28C-25D6-4ED9-82CC-ED3D9C646D5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DCCE95C1-520C-49A0-AC16-B9DBEBED585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0A288FA-7451-4BED-8E0C-B4C33BC1D88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B59444D-C910-4666-BD43-581BE0B8361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BEE56072-7BFB-45DB-AD37-F35E26D3B9D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7D8E33FD-7177-4882-AD2D-945F7EDC96A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58FF8E29-46D1-4EA8-8924-6F3150FD1A58}"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E84C06C9-5124-4090-B651-83D019FAF0E1}"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A7D45091-E27A-4152-AFD5-EB5CBD83049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C4B277C-4C65-44CD-8C32-F853D16AB508}"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31E51863-6473-49EA-B736-7BEE3D3B19D1}"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54DCC5BB-498A-46D4-AE43-24BFF368DD6A}"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5206E49B-521A-47CC-9BF3-EB4AD76F32E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D2311569-E3E6-4D0B-9F81-E48A905357A2}"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07F71EFA-3C14-4839-85A5-75162F92135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C7BAB9DD-3411-483D-A10E-F61D4FE9C2E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31F1492-4C1B-47AA-9810-694723CD1798}"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D0F43E6B-D07E-4A7E-8BEC-7F1AE86133E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521378FB-95BF-4603-99C3-8DCD8996C9D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51F406E1-00BD-4E03-B72B-56C1E76AEA61}"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A5F5E8B3-2D29-41F5-977C-B4072D9C41BE}"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980F132D-8C58-49F2-9513-E7A8BD07A179}"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F0210FA0-B7D1-4EC2-968D-E27D24F786A2}"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6030B566-AB3C-4B56-AD1F-67AFEB5DCEA2}"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6B5B1E97-85F3-4662-A224-B110D4D7BB0B}"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AB20CB37-26F8-4339-837E-BE6F741DA82B}"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1A4E8381-19AB-4DA6-88A4-8B788607A42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7137B3D-AAC4-4434-B278-1D500783C55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26D22CB3-FF3B-4A19-A247-FFC2308629E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E0B6FED0-5B5C-4F87-B0C3-FD1385B18C35}"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81679AEE-7491-4910-9FA5-B7DF4CDE6B7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B9AB9E90-85C2-4957-AFF1-D3BB0417E97F}"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98915CB-E54E-422A-A29D-A2649CD2F85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CE114F6C-ED88-4ADA-9D71-5EE247126DDF}"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A475ABC5-8E95-4CE9-80FA-1C562A952ECF}"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48CF91A5-1AAB-40C8-A392-62A27482E929}"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5ED82F4-2BD5-4CF1-85A4-34A35972F52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2FF0FF26-4D00-46C1-A65F-C6CB6826C26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0B2E3C6A-5E7D-421B-B5D9-8A6B4805628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332891D3-B08F-47DE-B93A-4BD93806F4BD}"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491425B6-5F0F-4667-8D39-06BF93452B3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293F613-2512-43F7-BDF4-BC9FB1474B9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2B24715-1C26-448A-A97A-677E7BBF58C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4F6DDBC-42A7-44D5-ADC1-6B8BFE81374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31AFF79-EE7E-48C8-A2B1-53AA45967CD1}"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BF9C1FBC-17A1-4B21-A639-D79E320DA24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4C314407-8497-41F8-AB5A-A027DBABAFB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E8E7C795-E891-48C7-AEE0-5E0C759DF403}"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06DC37D4-A0EF-4D52-BCCF-3A0029D9373A}"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2FF8F900-4A76-445F-943F-49950009FC96}"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D2B29820-338A-4C5F-9CEF-FCE30DACEB1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E05E652-9C44-4571-8B55-B0632F3EA4E0}"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6811022B-5CE5-4475-B9C6-79944342CBB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1D40A069-2EB1-4970-8F83-324D2C6774FA}"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48AF57D8-0E0B-405F-8926-964DEDBD2FC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B6F77B44-AE84-4E8D-A373-EBCD5837D915}"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390255C-5559-4DBE-BDCD-67E8FB05517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E56A7EB5-4129-4BA5-ABBC-54A8D6513B0E}"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5C135AAC-D013-4446-9B6E-89688A1FBE2A}"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A7C33E3D-845F-45A9-B4B3-98519151B328}"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A124904D-3022-46D8-92AE-4C42D022BE1C}"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16B0E647-917F-40D6-AEF1-BFDBF120BE93}"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3305E88-B5F1-4499-90A2-D247E45E2C5F}"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EFD9FF8-42ED-498C-8AD5-A364E80607D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5AE2366B-769E-4C7F-A531-EE14D61C6E3A}"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820DD006-D14C-443C-B2D5-8FE7DFAE81B9}"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A86607B1-7334-4113-B7E3-ECC2FEA056B9}"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B07AC2AB-3F3F-4073-B5E0-DBBC93278AA4}"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AA0D770-B5AB-4571-96D1-9E94DDC01D3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8ABA24A-A3FA-4054-9094-092B876785B6}"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06C074B3-50B9-466A-ADE2-731577CB39C9}"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C99AA72F-78C2-40F2-9164-E6C07DBEE250}"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FD93AA54-D296-43AE-AACF-95E089274348}"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3F545C1C-D4C6-4F94-96BD-3EE6584F04A8}"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1E1FA910-65EB-4C0A-AB3D-0A5EBEBB3316}"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F0A4B9BB-0487-47FE-926F-2811467217AF}"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32008DEE-FB4F-462A-9D8C-9E32B7B716F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7FD745D-AB35-41C6-9400-79CE68E045AF}"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A3913E9-E697-4311-8A39-EBAE085DEEB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0D1D5E8B-FDB2-4F9F-B0F1-E9800BB7E6E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11CAD4B1-A98E-4F97-AB02-7113BBF220E9}"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130AF0C4-EA9D-4C41-A183-7ACAC7F0DE4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D2D2E7F8-1997-406F-9B27-6A8AE551195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0AFA6EFF-62F4-48DE-A76F-9CB7AE987C3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E68FF274-9102-4D4E-B5A7-22F831E38CFA}"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169F5E8-C7E1-4747-8EB6-EFD96383E9D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6505692A-D250-4132-8C81-728860539737}"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9AD504CF-48C2-4790-8FC6-2D29518359E8}"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D6040C3-2C1D-4E4E-B6AF-EBD0C6A48986}"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B8F80E54-E71F-4B81-B724-103965AB09E5}"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D474B537-819E-4A31-A838-6E0F61EEC806}"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6EF17AD-D965-4AD5-B5E9-6EF6980D0ACE}"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81E69675-9B69-4511-BC7A-BB1BC32C791D}"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7D29F12F-8787-4C6E-A940-4874035EEE1E}"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879D6FB0-6B4D-4C53-89C0-A9A38D08C19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16190C91-A7F2-4F7F-876A-B76B28CAC71A}"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5F2303D-8F65-4A2A-B688-E520065A0701}"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0EC176A0-A312-4133-9899-D203C2FB566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FE0DFF47-504D-4073-9C79-6CAFC535A633}"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99530B50-2739-4BAC-A894-35CCB585601B}"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E183BCCE-F598-478F-B76F-9804924244C9}"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94BADB23-9276-423D-80DB-F6569FE2CF08}"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FF5D76A-57E8-4A63-8D03-9DF66D63E365}"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F237803-2768-4DCE-8830-C518A92DE6A6}"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025C77F8-B7CD-4F60-87D7-E04DA35067A7}"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1E129542-6670-437B-BD52-30E146FDC9A8}"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24C60D07-F2DE-4124-ADA8-7559C60A6EE1}"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AD6240F-7B67-4248-B494-983281D60A7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660DD28F-A5C4-439E-B492-815E54849FA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08552BC-DAAF-4BD1-9003-1D03CAA89606}"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9BC06FA-5AF2-4E2F-A3ED-31480F01B8EB}"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AA3ECCE4-DA67-4AB0-99CA-FFA0D1CE601A}"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B9341F00-DEC6-4474-A173-FEF2DBDCD711}"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32646B39-0137-49EF-B261-26A1538A5E1E}"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F59769D-56F1-48D2-A82A-36B8A97E622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D8382013-5A8E-4CD7-B0F1-E0AE91AFCC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25B259B-C2AE-499D-9579-D8A95766397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4CD5DA16-3CC4-4CA9-80F2-5F85CD1D838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D0AF073F-FE90-4450-8AEB-FB09354BEB7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46F05802-3CFC-4285-8B8A-F8F5F04BD4C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60E9E72-B328-4A77-9868-AD785231E9F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52845BC1-B711-473F-87A2-58787D7500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0F77D17F-AD28-4455-AC78-31363FAC31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5224BC6-6825-40EC-A836-5A85E16D933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382DA543-127F-4ABF-9277-2A565445BBB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71E9B32C-7B75-4BC2-A3CA-069422923AE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EEB241F-97D7-40F8-BA14-E2DD537E46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B6BFCAC-7552-46DE-8719-38344C7A77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93C1F9D-AEAC-48A8-A1ED-7AE93A8C9EA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BA72943-2352-4C13-8B9B-D1B3F157CD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A91824B-331E-4F8D-B4E0-686071F3576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1AC99028-442E-4F28-A34C-C59FDB08A82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31243201-BCDB-4B57-BCB0-9A89FE893E1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A027F5E3-00FA-45D6-B12F-59B803C4E4C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ACFB57A-9EDE-47B9-9C0B-20363FB73FA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A86E1C4-B621-4350-BC08-CDB4EC4A1A1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4D91110-D16B-42C4-B684-139E14CD73B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8487414-5EBE-412D-9F21-F30A2E8AF48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ACE4A208-FE89-44D1-8FC1-857BE5C193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2ACCA11-CEED-41E9-B0DD-A08F0245A7C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FCFD1BFB-DC7D-46C4-BB04-C1CA14BF183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0730A49-1143-4A98-AECE-61551492DBD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5F122A6-E52C-48FC-9162-D1E67C458B2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C802342-E84F-4470-A05E-81774A83F4C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8F92962-422F-46B9-A2D5-8E72E94B396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9BC4A2FE-0CD5-4D1B-B26A-D0A5A5A0D3D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03B62CD-F788-410A-844C-917D040CEFF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B14AF2B-09ED-4A6D-814D-4F3406FE8FA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23AEAF2-99E4-4D3A-A50F-0839507823A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46F2A08-6AC1-4765-AB2C-8740DEE66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33DC529-D576-4B59-A93E-7EBD5FC804D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28CC409F-90D0-4856-BD1F-1644CF93DF7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3226123C-AFE8-46E0-AE4A-0401447FEDE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14CE6EC1-4826-4C92-8AB6-18FF3F2F2AA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552405A-C2C7-4E2C-9299-1B27756CA02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A32038FD-F6B1-4096-B561-91908A53E76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D4C313D-61D8-47D1-8A52-8D948800A99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2751F1A-957C-45D8-BCC7-547DFDF2151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45AEDA03-C8F5-4AD7-96F6-DF49B52CCBF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B0416F56-97B1-44AD-8A05-3CEB7F560D4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793F149-73C1-4AEF-A2C9-4B4B7F8E33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FC31D5C-B7C0-4117-B988-DD7A4683C1F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24FD361D-BEFE-4D5F-9244-0BF08B0776B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AF702A5-9285-496E-AEE3-89537BA1625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CF834FA-509A-4447-9CF6-413D11B0629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4F34B445-4D07-4072-9203-87569E74E15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B47C9A26-9E2E-4E9B-B020-23C79EB94E8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14EEFA5-C460-4E7F-9C41-0006E39CBB5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6949A6C-F0E5-488C-ADB8-A759D70429E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CA12659-F8A6-45D9-A5D2-6940C8AFF50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DE6247AC-5F7D-4404-8BEF-A02F1A38033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1E64EF5E-D5C6-4731-9CAD-2A998340EC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D9B868A-96DF-447A-8ED0-B4732990258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1E38CFD7-CDC6-4035-9507-E17FA51EF7D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E71EFA1-532B-4CCA-AF1F-7C20C63E43D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4CEEADAC-B0F9-412E-9DAF-122C5DBA234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DEFCB529-3E19-44B4-B680-9FEB5C4DC25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A4D124F8-220F-432F-B7E3-A72868FE48E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98F177E7-B9A4-4B6D-89E2-109E885F8B1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26728C86-1B11-4625-82DC-F658C31858B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0761113-C63B-407B-8504-65272F22C74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E339D47-C66C-4D74-A7A5-094422F8A91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2C34508-79AF-4EC9-821A-B27E90155E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1414D6-C48D-4A12-AC5C-5F6A16B1726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8A31EA6B-6477-473A-AE55-8115DD52790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F42E5702-4930-48A2-A8BA-62937376B74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234945F7-37A6-43A9-B5BA-9B7D2765816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FB5AB63-4577-43A3-ADE0-DD59F3E9374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C4D5282E-E0D4-41CE-9373-3332C4D4BC0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CD2B902-FCA1-4347-B30A-714F32A3C10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325CEA14-3D03-4D31-BD51-5178E95BB06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814263C7-B952-4720-9DCD-73BF8961237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F11354AD-35BF-4E08-A5D2-6A00EFEA54C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5584DBD-F3AC-4800-AF0F-422A305ABC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21684-5341-407A-9ADE-6C4E012A724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1D883D9B-12B5-469F-91ED-76FA6E133CA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E83B1E6-38D6-44FE-ACCC-C18069F029A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64B5F98-9CD7-48A2-9587-1A2FED86F04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74FA04C1-8C94-4DEA-8A7F-DD43F13F2B0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4B6142D5-3CF4-48AB-AD0A-96843A4F829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959D7FA-4FA9-4462-87B2-028E454D4FD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E0D22E4-83E7-4AE2-8E43-0096BFACAAD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2DB26D1-2EE7-4570-AFD8-C347AA152A1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754A727B-FAD1-4F30-944D-331483D449A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178207F3-B01F-4C0C-8F8F-987D0237C0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AD8F01-F90A-4D7C-A889-0564648EBD5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430865D2-D9A7-4AE8-B7C7-D1FE63654AA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C5B79EB-1C40-420E-A4B9-B1591B4673E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879099C-9FED-42ED-801E-D3CBE0BEAB5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920DFFB5-872F-4113-9F05-9F072E4A243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7B86B69C-219E-462C-A202-1CAB2B762BE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96DA9F36-63B3-41F6-B57A-97D7EE3FDCB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FD802BA-7CDE-4433-970F-EA5BF63DFA7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17F6B1C-EA72-41C5-B95A-5C69C0DB442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4D417E8A-5C36-4D56-9B95-9C0155214B8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0AC1731C-6486-49D9-8980-11726D6104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8A2D111-4797-4404-B9B3-1DB84C72790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29A4668D-A29B-4BC9-A5E8-63085BA45DF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3A29B48F-B60E-4D49-BEAD-70308B8587D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FCD5704A-2D81-4376-932E-A12E88573EA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429F331-FD9F-4B2A-B1C8-1626BE2569D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828F9EB3-E256-416F-9061-E811CE10794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B62957A-5374-42D3-A3C7-D4B408EA788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D25F7D9-0E4D-40C5-9770-F6E8D734FCE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AEF8E40B-D9A2-4D64-A20E-D715B59923B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10CA88A0-66BE-4EE3-9061-E6E2909D1EC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383AA56-24FB-486E-BDD0-059FDDB12A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07F50A-C563-4CC6-A722-AB69804E6B6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4C4F4454-5111-42F7-B13E-28A15E2B6AC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0DCB3934-CF6A-4255-B128-52D6C2C0857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10688F78-2A92-490A-A52A-88949FD24D1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D9D68E31-F485-4206-8A95-B5AF3556753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065ACC62-474B-4A02-976D-4E8FBA20437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463A66DA-76E0-484D-8F61-32D89A4A7AF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C068354-A36F-4A35-86DE-20FB0AC9143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D3D04B5-DA52-4085-B046-C26D7A13F55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DDDA06F0-C04F-40CE-BAD9-04EA149E162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219B05E6-2CAE-423C-AB3B-ECAC4EE8BC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99521EC-7A89-4490-BEBF-85B08A0260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C560134-BC2E-4A5A-B050-3EEACE49B10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9A4DB5EB-0A3E-44C9-B84F-636A2B9769C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7DF496B-7982-45E3-BDDF-4ECFE811033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AA8CD0D2-F916-4DD1-ABA8-9BF16B1F0D3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2EECBD73-6863-45AC-B74B-6880680E722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94F93359-9219-4CD8-ABCE-3722CF32A28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81FB5EDA-7460-4EE3-83A7-2B56D3658AB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368CF274-FE58-4D85-9A56-57905C458F7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32CF579-D5CC-4448-93F7-9E4C864D542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457B30B-A5CB-4284-9F6D-A8C1ADE75F7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A518B4D-FD2F-4B8E-8D03-5B0FEC7637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9023BA3-103C-4ADB-AF35-7B9FDFDF3B7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C3D6B48-D1CE-495F-9A6B-16B86E5ACB5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5F012D1-9E8B-48C4-8D72-62D5ECC0EE9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042D121D-0489-4217-AFFB-6F779C2FA7D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425221E-3749-46C9-AAEF-E53B2D9F19E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CCAEE91-C20F-41EB-A12D-881A8FBD4E2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DEE6B075-0241-459A-AB52-587FC6BDB58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72A251E-06E7-4C29-A530-A9A3B28504A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7FB6A456-AD39-4BD2-85F6-888715C1211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0B805E7E-67E9-4CB2-BEFD-4D62ACF1DE3E}"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8980270-B1D7-4C96-971D-5FC6224C86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8F28C10-5FED-49A4-87E7-2973A1E43AD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549761D-F4E0-4B93-80E2-00AF02B5687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FAA16806-E925-45EB-80AF-A4085B171A2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676BDEC4-5506-402B-8311-2B52E28AAE28}"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DE8EE061-17EA-4182-A899-1803DC3CF3C2}"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611075CE-E6F8-4D6D-B564-FA1BA6B863C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0151319-BDAE-4E16-8C1B-FB70B73C5BC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AFABBD69-A7CC-4BC4-B891-A95016182AA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63DCEFF-499A-4237-823C-E3A3989B401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1DF02BC-0222-4624-9BF3-13E520011D0A}"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A8A28D39-329F-4629-B368-C47D648EBF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E5A35FC-62FC-478F-A834-90CD06288C4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60C2127C-A8B9-4D64-AEBE-219DD98E3A6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8E1DF05-EA4D-440D-A5E9-924918FDD72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4AC77478-CDF4-4D67-92F6-3427780EED4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BDFCA7B-0E6E-4C54-B5CE-E6896CD1D07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22F568C1-A0C0-4553-883E-7DA6472AF7B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887CB62F-9460-4811-A344-49AEAE4E5373}"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84ADA271-C8B2-4080-B43D-F42C955AE53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FF1EE0A-88AA-4BA4-960D-E3DA036023F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287C4E2-18A0-464F-B3A9-274CC16459EF}"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B38F34F1-17DD-48B8-B506-33FE1A678F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88220AA-C0ED-46F1-9241-9A119C28669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470D67B-643E-4D89-ACC6-9A59C4F7B5D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887E0DE5-DA50-4C41-8073-0D8F8EE1020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43E199DE-89A1-494E-82BA-31E402332607}"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DA3962B-9899-49C3-B9CD-1677B1909B04}"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0B4A1F9F-F02F-4A93-86AA-360B464C2C2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FE2360E-200A-4B60-AADD-F3AF65CBE6A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F814B505-9FB4-4A0D-8A5E-3C184A4C6EB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1648EB40-0E88-41DC-827A-C91E5502971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0679F42B-4E17-4527-BC06-A6F9150F0BD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539D44A0-AB26-4B42-AEEE-42F9A5FF32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A74953B-15CC-4000-849C-A0090D7AC4B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C5C4178-CA74-4041-95C5-C4985BDE0E59}"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4168FE7-7199-46AD-B959-31CEC480F8E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9C5C2E5A-96FE-457B-AAFE-C9BB80307FB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353A15A6-97C2-4B88-B5B4-4A36597966A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B1F8EF3E-2360-45C3-BC94-FACE235D4AA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4D73B9D-C4C3-4F32-BFE0-FA991B63D42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AD41AE3-3216-49E4-8543-941E3716A85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C4745BC-ACBC-4C36-B6CB-B0E415666C8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928C6A6-7A4C-4CC3-9C07-B9383295DD8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5539AB91-1DBF-4E90-9CFF-AEA9802C21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26581FF-7394-468A-B7FA-189D68B9490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7DFDBCD1-E527-4C4B-AFA1-5E7ACD2E731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9E5EB23-CC25-4A50-9C76-B6EC1D1BD94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122C795-17B8-4746-B231-AEF86644A6F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B3789A84-9204-4CFF-98A4-67EFA668E25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CFC955A5-94A5-45BD-B19A-6FD9977B99F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16071A2D-0BD8-452C-B7FF-F1A829FF396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A3464ED0-6DB0-4950-88FD-C4FB153AF70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E88E3213-8591-4CBB-BCB3-CBF10E68F22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ED32C48E-B23C-48A2-9403-BA57D52600B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F978BE6-1AA0-458A-A465-19447B5759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CD9D6-A85C-43C2-92A6-18C584955F2B}"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5C3F72C-55B2-41A4-BD15-84066767482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192B0612-8164-462A-A55A-241B6A16162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93C802DF-170D-494F-9C15-A7365E911B1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4DE2D66-DEA7-4DB1-85F5-4FDF623B578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B4B45484-007E-401B-A5DB-754ECC98697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A00254E4-6E23-4CF7-B4BF-A87FA3E89E2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C6C91D7-AA07-4115-9AD3-961E523256E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DA32B9AC-4AC4-4DAD-B778-7C7D15CCC1C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16FF5A6D-D90B-4574-A4A1-C12E45B2D8D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0DE447F-2803-4240-B68C-7DA057C654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804225-A977-4557-ACF4-5816C2C5692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BAF893D-6A1F-472F-9BCC-EB27F42A86C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65789D8-0003-4259-8C45-AD7CCDD84C6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5CD8AD1B-8080-4716-B06E-275220EF581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EA2D078E-D35F-4A5D-A08B-71FFA50A34A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FE711FDA-D181-48F5-8403-0F425681183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1F24B4D-187B-4C1B-8BF7-7CE11D2E4C6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06AC9DF2-2835-418A-A8AA-202EFE53CDE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6CC2D6C5-606E-4A44-9B94-F28B87E64BF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5D475FD1-BF26-43A3-8D48-3B0302249DE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FA044A31-2383-4A7E-A938-7DCC21A89F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C57A2A3-2FFE-4E1E-BAE1-C7DB2D167F7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30E1B263-C392-4731-81CF-590A0E58EAA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0A039BA-0666-45A2-857B-A1EC0C4C35D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698B681-F25C-4743-9C7B-A33DF27D4AA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961CC676-9FF3-484C-841C-72C864C2D84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603E997-766C-4554-B5E4-19D67F434F7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6B427A04-B738-4FA7-822F-186A7F39A1F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95A1CBB7-685E-4EDB-9714-D9C413EBEDB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A3B5009-2B1A-4EA6-8125-3D19BC5663F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27552091-4868-4FC2-9F51-F14731BE048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0C8C9F44-228E-4B38-9E6D-E6E7AF543A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8C32F82-EE53-4679-900C-7EF58C4ED4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DF83835-29B4-4D10-968E-C27632F0414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633C9A11-31BA-425C-BCDD-90D3EBF9FF7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56A3A1DF-54E8-492C-8354-92751EFFF62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E293D59F-A80F-4CD3-91FC-C2E74F1B37C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43E684B-0063-4063-A3D8-C93D7BCB326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E2F4C281-7EC2-46D5-AD8F-808DC3F70A8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1F7B87C-24DC-430A-8641-EEA20AA08A5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9E6AA817-A32C-44DF-A20D-FE73294EA49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EF9DAE93-FCE0-40D4-B60F-87AB1DE9D42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E4CC9372-8216-4B58-A5DF-7B40AB5AECE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C7D49384-6356-4623-91AB-567DCE9187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1FFF67A-9F31-499B-A1D3-5CD1FD995E6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5FFFAA0-786F-42D1-8F9B-8DDB3F122EE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295F794D-81E9-4AE9-B0A9-7540BF564DA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824707E-8494-491C-9258-DEAAEEECCA6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DE0E59EA-524D-4447-8DDF-4BDE7E0ACC3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14515B31-A826-4878-8B8A-659B199CA79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9591C3A-6310-4811-9870-81AAB152958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93E5B0B7-BBE3-43E0-9F17-C771588E34C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865B281-CC65-4732-B559-A0397CF6490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C663740D-5279-4D72-90AD-7E0B17B7CC8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7EE8936F-D4FB-4651-AD93-9E1A716F6F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C9337C7-26ED-4746-AECB-D617C5920EA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100943FB-8AE2-4483-976B-6EA27B04314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B5C2478-4C5E-4F24-8C84-BCB8C6E35EC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9FB7E204-11ED-405C-9499-EB0CAC6DC6D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5CD19B31-7EA0-48D6-9A0E-B3DB89D5E67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193826AE-0208-4B08-9F66-8B9570C1BD4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788CA999-1A5F-4488-907B-35E891A3C25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170F1EDF-0F44-4632-A136-7C51EEB587C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F28E80A-A377-4823-9EF9-AFD78891D19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1B5FC6D6-904B-47AE-BD72-234B37171A1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79FD007-ADE3-4DE2-B263-01B370F617C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3D766A5-3F10-4B28-8D81-075E9F68987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342A5B2B-FE52-4742-950F-5E4946AD7B2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49D7B81A-FC52-42E4-8389-241B1B3FB40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C163B985-304E-46A0-A5A9-6958B46C32A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3EDC562-9230-43B6-873C-6F7D0387F3E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7D1B055-BF1F-4894-B246-8CCCBC6025F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48FC6A1-5EF4-49E2-8B5F-3DB38BA581A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41CD5FE-5517-4D77-8FFA-A4FC7C41631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1D474A91-F94F-4F01-8737-079D53CBBFE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18B8D6D-C5E8-460F-8F7C-B367B56C421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3A80796-EF50-4BA4-8AA9-FC7FBBE63C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A4AE5B5-62EE-4349-920A-1D0228250763}"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9732159-2DA3-41FF-AD77-792B7244FC1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56CAAFF-0C93-44DA-87F0-F3F0753878A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16AA6AB-E5D8-4774-B7B7-0FC544056F3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D1855B2-4523-45EA-977B-A2A2AD9E647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2F3DE95B-39F1-4176-BA46-75ED65B81B4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7E3F185-2626-4AD5-ABC3-24D49D123442}"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AD043D80-0867-4E88-A0B4-FFDC93A2AAD1}"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4B58390-32F1-4D27-AED1-1ED53753670A}"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37B5C34-DB33-4D66-9824-AF1FDC4832E9}"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62911A58-704C-4F02-8AB7-B38E2F41B1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21650F-33E6-4509-B9DC-BD17FADE05F6}"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FBDCFE1A-4B68-493A-B498-394F0862433C}"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E66A161-F1DC-4CD9-B5E5-6FEF4569FF2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35660AF-492E-4D04-8180-02CAC676D56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E113F3F-9F74-42E0-8F1D-444A2B5B1548}"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FBBD191-091C-44E5-A13C-A7D63FC4CAE8}"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C1886582-AFFA-4D67-8AB3-D96288F3DE4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2D74297C-CEF4-4C9C-9958-11B272D772D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3FB4384-0AEF-4E7A-AB0E-07CA9B7143C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4E7B98E8-A664-4560-94CF-9D71BC36FB1C}"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D93EE491-75E2-4BCB-82C9-D639E01EAC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87AF8C3-00CA-4263-97BE-C7A764A6C5BB}"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9BB2B19A-F27D-4102-8D6E-D75A7AC0ACED}"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09BED3DE-0006-4E59-AA40-9391A98239B5}"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3375D20B-7760-4B18-8A81-CB811BA81B3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44676D1-0BF6-4F20-8919-9333596117A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EE4B2EFA-A774-403C-8F61-9798D87754B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A826121-C147-449D-A7C7-79B860B97CDE}"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3B4663B6-AB9D-474C-839D-CCC44F1BA5F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E8BDCC73-F73B-4973-AF97-464BD9775992}"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E4CD8881-FC53-4919-A8A3-AFF7E71AB326}"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EC098E92-1A03-46CE-9EB4-ACBE95846A6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28446B1-D4E7-4570-8753-04E188C67BB4}"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AF011D87-E9CB-4FAA-8C75-D372661A7C1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1EA3AEA-476A-4EAC-8615-ADD28B3045B4}"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0DC31D7-A6CB-4D6E-8BA0-D7A6958E7B1E}"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DD4D9228-7CA0-462A-BE2D-8908620B6EFE}"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9E868937-D8A4-45F5-BCC7-85325B654A8D}"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37D73E9-D5D5-4B7B-AA24-FC3A9EA15D72}"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6FBF452-1BB0-4895-BFE6-C9231733CA29}"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B6BCAE0-18C8-4996-B3C6-B2B12033F5D9}"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526CF1C-11FC-4C59-BEAA-44ED6E6E1FA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E7F96B2D-7352-4087-A359-0A4E59A2B2B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5A4427A-13AF-4114-B462-F7491B627AE5}"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5D057DE3-484B-4E11-A223-8C16A485871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241C619-7A59-4BA9-9101-07C0E38A91DC}"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49E18A3-692D-4D6E-9792-2280DEDE5F1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9D2D474-530A-49A9-BD4D-1E02C2C57F7B}"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B9DEEE9F-B106-4848-9BC7-90F63E8D0331}"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8AD74AE0-D745-485C-856D-D725D155950B}"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E19F541B-D683-4EBA-A1D5-AB93C9D99767}"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FDDBBCA-63DB-4E6F-943A-97C5D94319E7}"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F9FD56D-91E4-4F71-BF6D-AEE0F457F204}"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2ED0310-128F-4508-AFFA-FFB5C762D5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985797-CA36-48BF-B720-078C2A06CD30}"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83706014-A817-47A9-B2AC-F510663FE5D5}"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861810C4-60AE-4543-8AB8-82C776521C30}"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1F25CC8A-087F-4A1E-B040-48598C71E596}"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7E7A3A6F-9C09-44C9-BDCD-0CF58350149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1E6DC6B0-3CB7-459F-B0CB-A68202942DAD}"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3F133A4-62E8-419D-809C-B49B7E8010EE}"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0D28A3CE-D20D-43A0-A771-21768923DDEE}"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156EE594-7CA4-42D9-AC40-D7AA6387E9BA}"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0D09F5B1-CE1B-48E6-A73F-827A81B8F47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E835B521-A9AE-42C4-B1D0-A2EEA4BE0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B40A17A-1D34-41C5-8735-7F30CF26F9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08E28C9-6233-40DA-AABF-109D47DC295F}"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A3638BC-1BBA-49D6-9D9A-0FF6E0B03652}"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78CA2BFE-8EEE-44ED-9CDE-0980E70C01DD}"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C99F2E01-BE2A-4FBB-8081-E79305EC35D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B6E7D02F-DDEE-4AA4-8CD2-3D30F32E57DD}"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9C44D4A3-2CCE-42A8-AAAD-FAA3C7EDDC73}"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87230A2-D128-4804-8A48-01B29A714747}"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549B84E0-A240-413E-8E85-5FE351ED2B4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596175B-7E84-4112-9836-BCB222FFEC63}"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95782076-ACF4-447B-A317-E34A62D6A83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F2219FFB-BB58-48F1-8EA0-F1AABAE767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50F55EA-B6DE-419E-B281-A49A606FEC03}"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16C90BEA-CAD6-4D49-8E2A-2723106BACE5}"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EB2492A-7D49-4FF0-9A76-BB3753F5C9B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E8F5488-4AAD-4A92-B792-D0F90E5735C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B825929-1E61-4CA9-8035-AA1080688CC7}"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96AB74B3-C9F6-44E5-8100-B72122A0E90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17698045-11AA-4C4F-A2FB-BB1DA985AA37}"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1F6134C7-1DB1-4A89-AAE9-372A46A4A654}"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D5A9ECBB-08B4-4C0C-AC21-AFDC2CD51B8E}"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B2755772-7BEA-4834-86F5-4B4938451B71}"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4DDE0AA8-15AD-4B1E-A869-6D0CEB1E2E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E189F6F-CDB5-400C-A651-66772AB4C34E}"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4ED10EAA-C81E-47FE-9964-C6F7A42DA7D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A08B87CC-B52B-4E85-9597-DB752D8A04B9}"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F7AF4A59-4E6D-4A65-8C94-7410023F6C67}"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3BCB3478-584D-4CE8-B6A6-EC98A6BFCC9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48DEA5F2-9965-4753-A9E6-2DD1C9054697}"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5F69DD62-BDE7-40AC-817E-4785CF9CD91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C5111D5-702F-4665-9210-DBF408734325}"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B0700259-3CBE-4535-9A12-6F18114FB752}"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0E41CBF3-4FDC-4984-B5AA-60BA6E3F6389}"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56941D6-DA7F-4494-99D6-5A3466C3DB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74037EF-C9AB-4C87-A305-5A201E367EA2}"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3EFD8DE-35ED-46B3-9EA6-F509F84F7CAA}"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617243C9-F214-44C5-B946-0734A18F8558}"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DFBC1039-A1AB-46C4-BBA2-ED8128BEFC7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D75DAF1A-E151-4F99-800D-B21E8355ACE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2F6858BD-D9FC-494C-BB3F-434E6B3CA076}"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35BE0E7-4F29-4422-BF72-3F6FED2A4E9B}"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403B71AE-254F-4C06-93E1-7999B481F93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819B5247-7D1E-453D-9438-DF5FEC3FA11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91F40AFD-3E4D-4FB3-B6BC-E7295C847E31}"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C75D417A-CA56-421B-9511-B2C827F8863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C18AAFB-DC0D-4421-9FC1-EAA2C1B65056}"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B8BF2C6A-AD80-400D-8952-2BB73EACEFD8}"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746C381E-9A35-4DD3-987F-9484A85400EC}"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80F1D797-F7C1-45FE-BBAC-FDB5A6E57A07}"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7496F8C-AC0B-4B76-BAD1-6F3ABBB7F40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DFA8B121-7F27-4B04-A455-2CC766887D83}"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C5D2802E-AB6E-4983-8B2A-401AEC8A7C74}"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C0B4665A-F379-45F8-963C-27B62C9D1E60}"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8654EDB6-3971-4B05-B4B8-0483DAACECDD}"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ABE4F86-CAD3-4B37-B7E6-83A14F4D5FE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7D66ADB-A9F9-4188-9E7F-C367E45A3C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F2176D5-777E-4FED-B216-5AC6F8610A11}"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C58EF80F-BB66-4D9D-8DA1-CFCC2DD1BC81}"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2A979481-220E-4645-9994-94E6806126DB}"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5622AE44-E52F-4334-B058-7F7D18B6DEBC}"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2B6D311B-ABBA-4294-84AC-3545E4913E29}"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9305D846-D82F-41F9-A69F-93BEA57A27F5}"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52606B4D-A6FC-4F44-A64F-12F249FB8E81}"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B7B79F6-B4EA-47B0-A0A6-DA9162DD7042}"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BD2FC4A8-D84D-4DC0-9693-8BA4C3DD9221}"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988EFE6D-8A73-4E36-B75D-27FA1D0A9FCA}"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C9DB6F3-3757-406C-9D38-79F23066C5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39A1A33-B58E-4585-87B1-767B7156BD4C}"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0F73CC8-1C0F-44F8-B935-C39C92A82037}"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B896869-2EC3-4E86-A80D-A823B8E4DC0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E2BFF3AF-3C48-45EC-B622-9EF847C744EA}"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5E0E752E-B5B8-4FB5-9BC1-AB0DC013C8D6}"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0B5283E5-D287-4E98-9EA4-5EBD876F7346}"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38B86188-5A8D-4DF0-BBC0-7C2F85AF8D28}"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E8E90E02-4A9E-48C2-8EEE-6FD6708F777A}"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919B939-538A-4874-AF5F-14AD511481CE}"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E95B8CBD-E03A-4018-8954-8AA7E1E33270}"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25ACA97B-1929-4871-A063-683E2FF09E2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96F957E-D3C6-46C7-BDDC-23930A41E81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29B25B10-FE77-49C5-B54D-90104C11990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FFD33D52-C17B-4C57-AA0C-5165CE5E3754}"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FA97556-B939-4052-BFB3-BEE4CDA56415}"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B7ED3DFD-733B-46D3-977C-4594109DBA1F}"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3E2B4E9D-D456-4167-8D0E-D775EF899257}"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797F0B99-A4BA-40B9-94F2-040B3E98EEF0}"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62F35301-2BB3-4ECB-92BC-6056DBDE1EDD}"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FB095FA-5443-40D8-B158-8C0C61EA08A1}"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6CB0349F-8964-4131-B963-0724ACD9769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7E0E2A6D-6B92-4056-B4B6-2369B483C4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35673C6-7473-468A-9D8F-460831947CC4}"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2F7BCDF-0F6C-48FD-88FD-ED3029F06669}"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2F22B037-2058-4A56-9F79-4BCF1AD18E6A}"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7DF5B140-D7B4-4E33-AAB6-0E9F86C4ACEF}"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C4FA82E1-D611-4536-80F9-B7903ABD1F6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98C2BE68-AB64-4D77-B40C-A58EFF0DC916}"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CFFA73B9-9968-4FCB-920E-2A4C8B52CD74}"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BF255CFF-1E93-4A4C-BDCC-C06336405F96}"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AE95166C-4857-45CE-955F-3E3528DBB505}"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090C9AB8-BADD-4D26-88B6-A1F1B1780C66}"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13E1BE1-A865-4245-A797-FE746B8A00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DB82CF1-938E-4032-B768-27B59BEBA10D}"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E9C14A7B-266E-4D1D-A848-DA40D8BCED94}"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2A9C2B64-E8B8-4889-AA95-C6B88E16A24E}"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2C64FF74-56C1-492C-9A87-A48FB0E49997}"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7A5BB6F6-5483-42C1-8A88-29E238CCBF69}"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0CF52858-C735-4489-879D-55E1667E485A}"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8FAAED2-B6C8-4FC9-A03B-66FDD223B992}"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AB15E6EE-1681-4E86-85F8-070E5CD02C1F}"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A1A6C9C-B3E8-48DA-9583-0501488ACB5C}"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BCEFB793-1015-416B-8959-CB067580FC4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2DC11419-DC52-48A0-B3DC-AA7979F01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29CA15A-96E8-4113-9ECA-AF189729CE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21520D9-2840-4CDE-B068-4B71ABA42030}"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278D0046-BF50-4D82-A5E1-B6BD560D0DAF}"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B3BEE09D-CE96-46D8-9C20-C6F2D0D01AE8}"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34C4411-2ED5-406A-9533-2DBDD184E2E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7202D18-B594-405D-8BB5-D7BDDEE05D5C}"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1A57DB02-46AB-4843-A10B-56455E413024}"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77CF0974-7119-40C0-A87F-452036C1D337}"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44AD5995-50AD-498F-9105-78A7A65BFB9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69716FE-3E2B-4DF6-AE4D-4DCA0434512A}"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71DAEEF7-F39D-4DAA-A29B-C616E8780B2E}"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4EBD28F-2876-4ACE-ABB9-2F396A9480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31E03D-DE9F-452B-9260-91B466DD45E5}"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BC48D6C-391C-47CC-B70D-0CC49E7F2FB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8B5ACBE0-57C1-45A2-9593-9604D69841F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82365785-27F2-4A4B-ACD0-8E4A6135A60E}"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5ECE89D-4484-46B6-8BFB-6294A71E700E}"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9F3945CA-A7D0-46D5-AF19-261FEC17050E}"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734E5E68-D706-4B56-BED0-11379BAC0C00}"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B008F71B-A398-4D62-918F-7AB776B178B8}"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8B5F5514-71E8-453B-8886-E119EF37A54B}"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8D411281-B514-456D-92EC-0A543FA81DD7}"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23EAE3B-EBBE-476B-9D03-AF27644741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EBA86E6-5AAC-4024-9592-B8F5C9DF9F79}"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AE16F69-EE60-4681-BF38-9D6443A2D34B}"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4755286-528B-43A9-9A8A-6C9557B88CA1}"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FE3A8E2D-CBA3-40B1-BFAF-8746B571F165}"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001F9312-D1B2-4E80-B41C-7885200F1290}"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EED55842-181E-4DC3-9797-F06E13B1DA0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B6924BE6-8DAC-4E0A-A41F-FA8C6919CCC9}"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992C06F3-366E-4FCB-B655-5B8F8049388E}"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61DB612A-2AD3-4BC4-88A2-7953DBEB43D6}"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6608B118-C170-4B3B-93E9-9EE7BF7F4ABE}"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B6F7469B-CBBC-43A3-9158-DB51DF75BE1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F3BA87A-31D7-4D4F-92AF-7A3632C26F25}"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2E9A17A7-AA16-476C-B3EC-FD308540FBA4}"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51F5260-2129-4C83-8AB8-51BCFA8957E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348A6457-DEFC-4F78-9EB9-5EC5DFA7AF7D}"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B59812B-ED66-459D-94DD-90091DBC1F12}"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3463F9C-883E-4A57-AA46-F02ED05BA86A}"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95EA2E23-BCCA-40BA-997A-42D887CDC44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E581C75A-D88B-4C30-9059-3CC0B307C72F}"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63C4AA4B-4B89-448A-8362-8F6A29D04B4E}"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3D3735B5-C84D-45AB-A086-4E5B1ABB6CB0}"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E3D0A42-A53A-4093-888A-182EC5710A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811E66F-4989-4253-974C-04E8CF609CC8}"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311A2426-AB2D-4A65-A2EB-D23B4E864C6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FC6DE3D9-4817-4DA9-9D1F-EBF81B359EF3}"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D7D703B1-070C-49B2-8902-73C1A781F6FD}"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7C7035C8-4888-47DF-A0A9-190DF6F6E3E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BA1BCE2-7E4E-499E-97ED-22CDF91F3B8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31382C4-7EA8-4832-9794-77921546D811}"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6C353D7-3ECD-4C5A-B1A4-5144E1632B65}"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D50FAE27-6466-4698-97E9-A1D6C015DD2D}"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0B33A9BA-070E-4633-9407-BEBE168DCE1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F231C8CA-4996-40B8-95E6-C11633C3AFC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F03CD34-C68E-4EF5-948B-CD57832C5DC5}"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4BF1A940-BD32-49A8-9E67-2DE10BA05B82}"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724A716-A983-4DCB-9D96-AB1743602B07}"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BB6C3086-DFAD-4CBE-8A63-4A9066E21B81}"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80A44DDC-9F78-485A-90B3-116785D5429E}"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65A32196-549F-4733-8794-D90D2237FE63}"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72E62D6-8125-4ED9-A07A-FFCDC145C7C7}"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8FBCA7E-BF48-4A7D-90CC-528B2FF4355C}"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CD540F4-E0CB-4D8B-BE4B-AAEAF13FB780}"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42124B7-C1F7-476C-B8AC-1A9562D57CF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C3FA34C1-6DB5-47B3-951F-22B51347FE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69C7C99-5957-47CB-B926-53D176B106E2}"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4016D844-5E8D-405D-9346-D21BFFE65BEA}"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46837537-729C-4DA9-A1A0-00F13527D12C}"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2045FFA-8165-47D9-926D-2A0621D0687B}"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6F16F147-E14B-48C1-B8E7-D02201B2BC24}"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3C69D09-0FC8-48E7-A64A-2AAECDD8B428}"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BFB6BC8F-F7C1-4DEF-8902-59E7535E722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FFA7AB8B-9790-4A35-9A15-E0DDBDC4B29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ADD50B8-9E2B-4C52-8E11-45C1DC5343DD}"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80614BA-F94A-4B62-ADC6-20F51D488262}"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546E8233-1FC6-420F-989C-37C57483EA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AFD349B-63E4-4F72-928E-D274D47AF068}"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61988F12-8357-48BC-9573-E4F7782A9598}"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AE86A563-1328-4D1E-9A7C-E31D178B4534}"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74BD8BA9-93AA-4EB3-B47C-9DBBAA019680}"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15B3C22F-EAE3-4C6A-8D8F-3200C774A504}"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C8098F25-E0BE-4B8E-8614-78658E23FA41}"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60DF5C8-27AE-4477-9378-4020D543FE3C}"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F675B14-9226-4243-AD69-1B006F63A15F}"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0354654A-3A3A-4AC4-8DBE-70DA6E8ACFA1}"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4E0D0C02-54A2-4FBE-99CC-57B3F7F0CA7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138BBAF6-1C8C-4992-B5D3-A401F31FAF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55813A7-4958-450B-A87C-38F6546D9025}"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A9D8DDF-ADE4-407B-9CB5-CE0F7D8556E1}"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A5ED916-1E36-4838-ADF5-7A5FCBE6B24D}"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0503B3B-976D-49CA-8408-524AF3C25A35}"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771A4001-B344-4EC0-BBB6-A5AB0A0A330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E583CCC3-D98E-435B-A519-59F1166BB075}"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DF1F2E64-E845-42BE-BF06-1E9A373D3A6C}"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C7004DBD-02AD-4ED8-A7A0-7ABFAADD93C8}"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2ED5078-E028-4005-A3DB-4B3CF4D6026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46B6278-5EA4-49D0-AA1D-3EB2D9B18E38}"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56AF359F-501E-4992-A0C9-3BE81CB354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9240107-31D7-4AD0-8AD4-21238C3FD93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C92852A0-77E2-48A4-887E-1C675EA1D0E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3F89BD4-38B8-42DB-B302-5B54D3132587}"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C5EB4F7-3669-46AB-95A5-CF406CF8195D}"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8580977A-6B38-408A-8CB0-033D303AAB57}"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8E7A1DF9-76A5-4BC8-87AD-504FA5A1B439}"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52847AF5-C509-44FE-A53A-D19A8CBFC87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B2A930F1-3498-44B5-BD5A-4C0C1E26EAC5}"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AF927582-666C-445A-8E3F-84381A8FF319}"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AD203AF-A359-4AF2-B5F9-6950DFB56586}"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876F0A79-71D6-4EC7-8B42-6CBC81B37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FA5EA32-80DA-442A-A894-D92D9F99A4E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68C336C-9E24-4C36-8A14-C4D67DDC0E29}"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FA32B1D2-E00A-45A0-9B9A-058F3CB0E33E}"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776E787A-6CD0-4F5B-B223-ECAD3DCA8A98}"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6229C839-C7A1-4214-ABA0-E434F0642BAB}"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35F69C5F-9470-49D6-BAA3-9C99CFDCC7EA}"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5779D6D-0541-4A17-BD28-20BF25BA5932}"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4C375BB-D5A0-4279-B69F-4EF764105D93}"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5BD4B245-E524-40EC-96CF-E6552181FE2B}"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1142C471-4E62-4E76-971B-68349A655EF1}"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BD5F2DD3-589D-454F-AC18-95BE4FB17ED0}"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EA358C59-0522-4589-98BA-3CA82C90E05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7573EDF-8269-4392-8AF7-E91BFD7B11C1}"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0BDBA1BA-F289-4611-84C9-6E305D55D16F}"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F25D3BE-2758-4C4A-B24B-C3C9AB923442}"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AB87F13A-8D39-4D7E-98F2-281A09404F6F}"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641B22E1-540E-4558-B7C3-C6C1CAEAA4B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396851DD-1DC8-42CE-9918-71E3C6AE58E7}"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8C145BA-8635-4710-9D2D-B92D3DEF8228}"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6A6B70F-1CC9-48BB-9118-5060C941BA3A}"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1CBF6D4-6B75-4204-BE63-C845973DCBD1}"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25C8A9FB-6E28-4AFC-97C2-7E4F04C9780A}"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6DF10781-C0AA-49A9-BB2B-E20C54D6BA8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8BE93C3-CDD1-45C3-BAE8-5522C0C740FE}"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A4265460-8B93-4A84-860A-BD02195B05B3}"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1C86EE16-B298-4F93-A024-7762EC9F5063}"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3FE205C5-A145-40E5-B6B2-C6442946B23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B216CEFF-278D-4C4A-BE91-567D5568796B}"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D35D138E-C697-4ED5-BA35-793659B2E429}"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5B42B3B2-BEC3-4A55-9D6C-7D227219E9F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9D717773-145D-4ECF-AAC0-A77543804AAC}"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1BCE4D1-E3F8-45B0-9FA6-FD84C94113B9}"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C514F93-0DE2-4CFB-8D5D-0B40CBBB477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6B3A7733-6DAD-4E60-8360-908B80F2770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4D81CD8-A252-49B3-8BE8-E54740047E6D}"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F6ECA448-DAEA-498E-A938-CB2C8333E2A4}"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987222A9-C49D-4E0D-BD48-61D4D557C5C1}"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273296C3-F37C-4CB8-8847-CDD652B13439}"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D1D226F1-609F-406C-BF19-F8218C0F8584}"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67F37102-179C-40A5-AF1E-6C2346B12B6E}"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560ABBFA-D713-49C2-993D-DA081FE48FE6}"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DDD5C3AA-A7A4-44AE-9553-4F64F49E7D03}"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2CD6F889-5739-45A1-993C-FE8D48312C6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F123E4D5-C036-4F14-9D6B-AB63538AA0BE}"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F5F891C-68B2-4D20-BF98-230B990540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042E3E1-6B22-47C3-AE4C-FB38ED6122FD}"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B821C58-DF79-4937-BE4D-BE62C53AC1D7}"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3BE79B6-598C-4BD2-BE37-9F1707C83FED}"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614011B-6181-49ED-928D-DF72F6EAFECC}"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6D008865-E512-45C7-9514-BDF42503897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66270184-69C6-493C-9645-32F098E6D34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E33C9FBC-A776-45BE-B210-8EC8BD2497F4}"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03C36E27-91F6-4AFB-B95B-3BBE1753E614}"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21A65ABA-2C46-42FF-B03D-DC1F08DB2D67}"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D51608DF-3F7F-4AC9-94B1-9BAECA16813F}"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A1C65F4A-D314-4B44-AAD0-CC4EDA8E36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EE29C16-F9E5-43E4-836A-C67390EC9E0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29F138D4-847E-44DB-8850-2B950CD82D0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6568F74C-A913-4DFC-861D-BFEDEEBEE05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1E84059-DC36-4C45-907E-EE7614E6C475}"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B9DBB6C1-5C33-4F5E-9F73-2FF8C1C82500}"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2CB58B1D-2AF1-4C23-8D6C-BA4964969758}"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1FF5E38E-ABCE-46D9-828F-CFB6FA652B31}"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D6998684-9FE1-4C00-9270-F7B4EEE1606C}"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B5BF28FD-25D6-47B9-957B-0D6FA2772406}"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B1EA517D-D63B-42C0-9AA4-2171D9CEB606}"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9CAC7C17-C8A2-49AB-9DA1-455EA975A1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5D2641D-170E-40EC-B1BF-67F2793CE937}"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288C7945-C0C0-474D-BBBC-4123AB4E36C2}"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257C1760-5CB6-4AD7-B130-8790DB12BDD5}"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EE79A79C-F2D8-4877-A64B-1F025B72A431}"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19A9BCB6-8A9A-4DD6-BC69-2F84456FD19E}"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6383D839-3973-4770-98F1-8EBD797D617A}"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2D3B9A5-B922-4FE0-B793-4D748311D992}"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6EEBDEC6-8749-4D5B-8CDA-D22E5A35482A}"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18BAAD4A-3BEA-4664-9BFA-B35874AF6E60}"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A6E889BB-F0C0-410C-89FE-9C7037856B4D}"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EBEB909C-703B-4D5F-B0B1-F0566A1306F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D3FF106-4564-48A8-A263-CD2DAB8C0BE9}"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A975FDED-8A24-4678-92FC-1DC847728EDF}"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B07DFB04-B54B-4C8B-A4E3-AF3D5343080F}"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CA00056D-CC9D-4C56-8318-A2C583D0E812}"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88FF2756-7827-4354-B82B-72D5A6C15941}"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2B1F5C52-C262-477D-ACEB-EA2E044FE448}"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77D9E515-DBB9-43C8-918B-D6EDDF2310F7}"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326886D4-64AB-4EB4-913F-575BA1CEF50D}"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FC98828-DB59-47ED-965B-998E686E5881}"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5D229043-48FC-4933-8A14-DB532E297B8A}"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33D89DF-CE42-4336-A33B-00C955ACE75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08D733A-4EB3-4255-BBF0-C7B1B098F76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2FAF57AD-571B-4D9D-8940-626BA4604888}"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0DB8B9A2-06E3-4727-9A04-986B16238BCB}"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94627551-4222-44CC-B68C-6B652B2A70BC}"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D42F9E4-219E-4B62-A571-3609998CE3F6}"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6C9607E8-4F45-41F4-AF3B-2DAD656BEBA7}"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9CB4347F-FD71-4A40-8702-8670A134E511}"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AFEE8CF9-0454-45C2-AB67-2AB8391A04A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9C52982-615A-4185-AAA3-3946BE715586}"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4BEECC5-8B43-4200-BE05-A87FDFE9C5FB}"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77F34A6-40D9-4BD2-8516-3BB5EE5C31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CB7223D-5E2A-43C8-9D86-595E032908A5}"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213CA42-7B8F-40BD-ADA1-973DFE2C9F4D}"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210FB7BB-38A6-4F87-B855-0D9243DE66BF}"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13BE2F80-D3FD-4709-92A9-4187B4DF0497}"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69B1120C-B92D-483E-9F83-AF953C86B72C}"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8CC12CBB-5C0C-44BA-8F63-0E1480921F16}"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34D2A5D9-8F82-4529-B821-AB28DA7C2168}"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2B0B9D70-10A5-4585-8CFE-389339D686EC}"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1AC555AF-CD4A-48A6-B159-3B948390EE58}"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1AB9A762-71B6-434F-BCF8-A5254E21A93B}"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CD7C0DC-FCB7-461D-9C79-626FA9C82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5409B6E-AB66-4A0A-BFD0-0C46B47F24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9A88C05-D40D-4490-9847-D9B99B56B9BA}"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CC4573E1-B2E1-4EE2-A021-F0FC56922B8C}"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ADF6448-4FD0-419D-8B29-27BC1D2EFF05}"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2868D1FC-444C-4C60-936E-75FCE0074C53}"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549DD505-380C-4551-A3A4-2D1B492C1A41}"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CE2CC256-D2CC-460D-A213-E1FFDACFD356}"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5698836F-84AB-402D-8374-7BC501611D70}"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9F9B891-C5BA-4BAB-9C5C-E6570634EE5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1FA5AEC-2831-4647-9372-A1A05E6B2C1B}"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9AC25436-FA51-47B9-B6FE-57FA4E392DD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2818294A-F994-4972-B19C-4858754E516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1C8EBF7-9916-457D-8F41-F0E73C21F247}"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18057A53-D5F7-4EB5-A30D-0C9C9983CA24}"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6ACCA2D-0D48-4833-A4D7-AE501C1B8268}"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6116C52-607F-439A-9063-03E1A9F8F359}"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5AC7574-4A1C-485A-8077-0627670ED2B9}"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1D94D542-1FD4-41DE-8B22-78A2CCD0C8F7}"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8723111C-0E85-4F7B-B38A-A2C0BBFB7F43}"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4E4C868B-5662-4CC4-A35F-52880AB07C82}"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B9DBA9C-443E-4F47-A33E-4F59871AEB56}"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95B2E45E-7439-4E88-98EF-8E70AD31BE19}"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A44337F6-62FD-4F04-A465-5D9E71373B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A49809E-0491-4EDA-9605-2206F9459219}"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D3E3D556-73EF-40A0-A54B-3736418F549D}"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1B6E6358-3A9C-4B6D-AB3B-949B77970C7D}"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E8E1A3B8-AD83-442D-94CC-CDF1C5F7F040}"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1AF9242-828D-4F88-A3A0-BD6708FDDF0F}"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2A6455D-EA3D-4564-ACC5-DB9B61652FC9}"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28B7172-36B7-4FAD-9B32-764D17028099}"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F9FE7D0-882C-44B8-9A5A-322B03EF0B41}"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CDDF8ADB-D3E4-4AFC-BAC4-465B8A96559D}"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4890D683-3409-4F40-BC51-18657D744043}"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A9365886-089D-4C92-83A7-7DB2F8EDEB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6C8A6197-BB22-44D8-B1D8-4E5B765F944F}"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C4ADC386-8E99-4873-8DCD-7235FDD3D3C6}"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2D7630CC-8ABB-4D91-A881-EF451768FD4C}"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B87B3247-B6FB-49B2-8222-E6ED6BCC943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B06CD6D2-D6FD-413C-B6EA-B72DA22C5A56}"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4225023F-8615-4D6B-8BE4-3C127B410137}"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C22FF607-A52A-45E0-BB0F-E805FC5DF9C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8C29F55-4D6A-46F4-AAD8-8536CADF7308}"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EC5AA6D-B500-4799-889F-4D4C9EBE06C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B2B17244-52C8-4C29-8646-2DC06DB3C2A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6115405E-23CD-40E2-9972-57EA21464F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A68268A-B241-4D47-8D4D-849098FB3EBB}"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8DB2A06C-C58D-4C3B-9CBA-0F0E3466E20E}"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930ECCE8-4736-4CFB-B2B8-A2F97EA80141}"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780C3939-E57B-4446-BF39-C10773E19AE1}"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1547CB1C-AA73-4814-9F5C-C8FC27BA705A}"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E660770B-E521-42DF-84F4-44E72752B304}"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5708A8DB-9711-4526-BF9A-B8D02C5375B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C08C8FD4-6D17-4D9D-87DF-8DE5A0A74F46}"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A7D9A3F5-6C87-4D61-BC7B-407166EA913B}"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085C2FB-7BD6-42CE-A76F-F00C57B17251}"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CEDD6973-898F-418A-8875-7E8E8D38594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0EEF993-D391-4A15-B436-D8E44EA9A76D}"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3D715C45-589C-4C7F-BBE2-F69864FAE4E3}"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5068E5F4-2B29-4888-8BB1-EDC060C604E6}"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821C676D-497D-4AE2-B3B2-32D759B27E45}"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86817F29-0BC2-4C5B-B3BC-31B611E84586}"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BEF9EEA-9C6C-4FEE-BB2C-465F65AC5732}"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C1BE4091-3336-4156-87CF-274C8DBB5DB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19312B12-36C5-46B6-B17A-7C1E329C2D20}"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883581F5-C776-416D-833F-2880D08781D6}"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D1E32E07-A2CD-4830-9A1C-B392B5069DEF}"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B509BD62-3912-44FA-A471-BF6799DD9B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82E6B4F-2030-4032-8128-3BA34909E84C}"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EAC1949-5DC9-4A6B-8668-BDFB5A05E9C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DFDBC98-3CD5-47AD-A2A8-9E15919195D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1F8539F2-100F-40CF-86E4-21B0BA8A6234}"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A4C60724-E7B3-4BA3-A3EC-250A38997FD5}"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00BC2E67-8D2B-41CE-AC87-9EC2D9F7C4FB}"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C8704497-D04D-4B5E-BEDF-422D71497C58}"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E45E027D-65E8-45E4-BE0D-47EF5072D0DB}"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035CC8A0-40A6-4BF6-B7F5-263D23D1D489}"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BB8ACF38-4261-47AD-9734-54BDDB788F40}"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F7652078-C6D2-4D72-9BD7-E2ADB663C7C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7FE93DD-6CFD-4078-9792-281C7701A4FC}"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10A72020-8CE2-40A9-B73D-13368E10A29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B94914D-C0EE-427A-A023-D13CFD16432E}"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DC03077B-F071-468C-9527-0C8D4A46A583}"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1264597-EA46-4A2A-B8E8-4FD6C507A13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55CF9DBF-0844-4844-A669-F829419FC2A5}"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A8FD74BD-9D04-4E93-961A-7B48734CD7C2}"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AFAE6FCA-C76B-4793-B2BF-80C47E45C255}"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E0E3E247-808A-4D3D-92F5-1DB4CE6802FD}"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B43B931-F76C-426F-8BB3-64B226D24553}"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263AFD08-C34D-4450-9C15-01A7738E45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C387F94-FD63-4989-A876-D6B003EF0AE5}"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501A9B6D-5F19-4063-BCD9-EE20447FFDAE}"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45417B67-7E84-4EC1-AA0C-C7B1904BB5F3}"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F80E45F0-9E6E-4D1D-B8D1-8B48DD6414D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5F3AE747-9C4E-44E9-ACB8-E566DB78ECE5}"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C24B878-DA43-4C70-A9C0-F69FAC2927A4}"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9F04FC0-4EE5-4A0F-824D-C29344C20227}"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2229775A-F6C0-458A-984E-8101DDF17FC2}"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5DEBC1B8-E612-4975-AAC5-A55D622BD4E9}"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BFA69C87-2B27-466F-926D-A9AC61744B46}"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1237D9F5-BA94-4B5E-A7FA-03F449695F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AD5B61E-4921-4FF1-A0AA-72443085061C}"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76EAA1B6-8FDC-49A7-9049-26B653787882}"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0493041-317D-419F-9D66-C388073EBF66}"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0CA0D417-E04C-4A2B-9051-61D7E7A2B914}"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B720F08D-7E9E-451E-9C9A-4FD0BAE0FBCE}"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91EB1F98-D2F7-4BAC-B5E8-548E8E4026F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E4DC8A0-1C03-494D-87A1-E5FE8A4744EC}"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757350E-7355-4B4F-A69D-D25BFA28DF6F}"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FD9C19A-BA1E-43A1-AECA-B0D7A2B676DD}"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0F7AA79-219C-43FC-B54C-E894EAB49DAF}"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1FBD2BC0-4D93-4695-94AA-ADB16923D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6156F45-6EF9-4956-8C50-C24EB74EE6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7890434-05EB-43AF-8CC6-CC603B6DE328}"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6EF1CE93-1555-49BB-9B06-8188FA3384BD}"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7AA93925-3BDA-4C15-B307-D8257713B456}"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DB307EB-CF7C-4947-A22B-0B7B8599F132}"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9CB928C5-5E8A-4C60-A19F-E1BF5F72BFEA}"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3756606-A5AF-48FE-86C2-2183A8438228}"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850D84FD-CB09-4E32-B0A8-3F70914A4328}"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034EC323-2526-43E2-A935-ACBE63546E2B}"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13FC6764-F753-4C87-ACFF-2C85C2BE0C19}"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58EFBB58-1D65-4E40-A062-9A8E0F618672}"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D76DEF2-DE5A-4CC9-BDCE-D1D052192E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6562C27-0C3D-4BB0-BF56-572C51C8AC21}"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A5E3FE3E-0C72-4766-9A98-0488739F72E8}"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DE5DA654-7231-4524-AD62-D662660652B9}"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417C2F7C-13E6-4049-A1B2-7FFADFB8159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20ACB819-F3F2-450A-8340-D4235DFB5A47}"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457D2E8-1A47-4C2B-B5BE-BB379960588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4B720F06-D96A-4300-9712-EB80B243DD5E}"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72485FA2-582B-4645-86EA-10DC630CF98F}"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49D6AE9D-22D4-4F0D-859F-3E27470343AE}"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C8FBE5A5-CA89-4F96-94E6-830E1C71ADDC}"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8EB0ECCE-BAF7-47E5-A3E7-D979F44C65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09D8B41-1886-4978-83FB-6B1F22FEEC79}"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F86DF18-7220-4A8D-8E57-5985A7B0638F}"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FA716A2-CB37-41FD-944E-8F2CDA8C267F}"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8AF75AA-6F7C-4B17-8BC1-50FDDA88F38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66AEDA72-31A5-4B15-9AC3-C52E7D56167B}"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6E681A32-952A-48CE-8307-AC2CC2FF5F04}"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30981CD2-2C1F-4C3E-B048-A0CDD508C9AF}"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24E4F6F7-0C57-4AD8-B927-1CD36C846FDE}"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4C943B8E-9025-49D9-84A6-977717C796C1}"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E0F80C0-1A41-4DCE-AB0D-C3C827312DAB}"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68904BEC-8A63-49D2-A779-706FEDABAE8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534739A-D7FC-4E70-999C-A0961DA0A619}"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D4B0F85C-0D8B-42FB-B44F-28145A1E5BB9}"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975823CF-1948-4CBD-8926-CF3452FB0E73}"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AB79A91-9B4B-4612-B0DB-7535D3803F96}"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9A9C4F3C-0922-4520-8939-970D994E7947}"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983E1F3B-451B-4E3B-A76F-1ED09335A5D0}"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6A1D668E-41F4-4AED-8079-2C5E544BD00A}"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6CECD0FF-EBC8-4F1D-8F6C-05D92A5B324D}"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F95EC06A-0367-437E-BE3E-AA90A71B941F}"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4931682-5385-4287-8C53-9CAF2FD093B5}"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C2AE9125-9018-4E64-98A6-7AD8FE456F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AB9F999-5AC1-4CC8-B541-1CAAB09DC2D4}"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A740A92-4A01-4C45-988B-D13524472F7C}"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BE303274-F4FE-46CB-AE94-08C960D6034C}"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642BE830-B50F-4742-8DFC-81BDF5AE7A07}"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134BC4D1-0551-46E6-AA3A-46C1EDE7F077}"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3D5C6BC-2BE3-4A0C-93F9-58156ACE083C}"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9377255A-711E-4852-B42B-5BB5A450472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28224CB4-765F-44DD-A1C2-45310BC0228F}"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F801A692-A453-48D0-88FE-D845BC809283}"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EDAE76D9-80E2-41BB-BC2E-C317AF0E669C}"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54D4CA5D-0A7C-49C8-952B-34215D0B004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9A5AA8C-A800-4229-8686-8C655C8E3B7A}"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204B434C-92B4-4CB1-B256-9A4938943546}"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F6DD3CC5-B5FB-4CA7-836B-248364B7BE05}"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0A89C206-0D45-4F60-A663-2FB61F4B5BC9}"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EB1CB566-FDB1-4E51-8EA7-758909092E4E}"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E64782E2-64AC-4FFA-B434-4D7636E8EE16}"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6236F57-0245-4D97-A2F8-7F3E6E4363D1}"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EB2FCF1D-9907-4E1B-9137-A4BE2539717A}"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729CA25B-9722-498A-BFE9-FADA9996E0B3}"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4EB1BB58-E730-4D1C-9E57-4F8F693DB4A1}"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90CE3B50-64C3-43D0-9414-8B7363B85E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49A80A0-BD8E-4FE3-A5D6-FA16684351BC}"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58C070FC-52C0-4FE7-A214-34519A66F75A}"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4BE4DA32-0619-48F4-BD66-3ECD7B464680}"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92ACB17-0C03-426D-A62E-95AF9EB277B3}"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3BB74861-5C85-4F16-A9C6-B8F5C0A34226}"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A1D62C6-A4CC-4676-AD73-A6F42D6BF1DF}"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C397C45C-2917-4783-B5BF-6DB2AB3B4279}"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EF690F67-AFD1-416D-9735-9B7C5F3BA911}"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B475111-B513-4DE0-AE83-42C92C17F81A}"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6CE0FCA0-4D79-4E11-93BB-EBA39833C65E}"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87A5914-06CA-45BF-887E-0D210551B7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6F381F-1DDC-454F-AC7B-86B7907243D3}"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2BE4E20-385C-431B-9BE3-B1792A48AA5C}"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C4C3A6B6-51B1-48E4-AEE4-7E84F15C2F7F}"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439C738F-2EA6-4F8C-83C1-A3F21C80A51E}"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C636B3B6-8FA2-44FD-A1BC-19A8B6259F15}"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8262F967-F7A2-4B94-B41C-C216C23E633D}"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DE4A687D-D127-4B88-B242-A96F3AB1884A}"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10E1D8BF-F5C9-4E27-BCB5-37281829CAFB}"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AED5A3C0-2DFE-4FC5-8B1E-2F8C99E4E91B}"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CE0D8C7E-2CEF-4C8A-8EA5-59C43FC978E1}"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D237D92A-CBEE-48D9-BB47-D485109F01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4A98070-634D-4F54-8D47-C88723503D69}"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AC1A661-621C-4CB4-BE4E-FABD2B9D94D5}"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C151F5A-CAE1-4492-8BDF-CDA059DABDC1}"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FD75131B-EEFD-4284-AFA3-484E93AB86F9}"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DDEBA4E3-682F-445F-AD20-0438736FC9EF}"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95B5016D-90F6-4EF9-BAA2-24AE64E0F104}"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DB5F679E-5CEC-4DD5-BC33-6DDCF357AA99}"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F18505F0-DD21-4D26-86DB-38814259AD9A}"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0A24683-41CF-4C87-B868-29B4855F6D29}"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19C0314-63ED-4954-AC69-0A0DB11336AA}"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95FCDFC6-C130-49D8-8917-C9CD9A9C61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D2ADF35-4FAA-4B44-951D-7670BD277086}"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32EB70A8-C7CD-468C-83C2-0B13498B4DD5}"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AF7C98C9-E997-4CB8-914E-80C1C259C2C9}"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FBBE5EA4-C078-4F4A-9551-EAF823143EFF}"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B0B113FF-F403-4AED-AB08-1D1B2DFE910A}"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1FAEA0AF-3304-49FA-947C-DAB4CBE9CBE6}"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7E8A4BD7-1C5C-45A5-9091-98618659CCDC}"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3D6B36F3-5CA6-409E-A040-9F0A5C5202C4}"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752D97DD-8AA6-4766-8E8C-E0ADADFEE0DA}"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C4ED5DA-6D80-4367-B117-A8AEC38E19C1}"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5A3D4628-1C01-465E-B2EB-FB6A5380BA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4436C-8B82-488E-821F-3DB4C48C84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41E8B-8DF7-4AB8-81CD-B1D618FF91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4934C-1EA3-467F-BFA4-DE0DE99279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3CC2F-86A6-4649-B989-AAD997C5CD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DBEDC-C7E6-42FF-ACE1-C54D608849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BD2C2-E0E1-4B0F-B7A6-CBD5932499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01833-FB57-4299-8750-DD9ACF9008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A3A49-C24D-4B52-8672-13093F9D6F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DB14D-7B47-4CD6-AEE5-29551433B6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B8E37-3207-4662-8E47-78B5B35148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AC972-8A99-4F2D-BA6E-D1E0F06554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0C723-3D01-456D-ADFB-F98F84AA3D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BAC02-EF03-41B2-8F1A-59A7B6DF04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B44BD-F336-412C-BCE7-FF8B47EB40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F5045-BD70-462F-B511-5B6FC51866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00404-0554-4819-8EA2-B676284947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4AF91-51B0-4DA9-9E2D-5DDDCA231A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FEA35-4AC4-453C-8A2B-42C7C1A169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2C4FE-D566-43C1-936B-565B08C351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78AA9-5A7A-4D71-A13E-21F882DA6C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5CFE8-D0FD-4453-8A46-2AE98BAA51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AB8E2-22BC-459D-AEDF-9F9460A3AA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A53F5-2099-419A-B415-939A266E14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C4E99-F7AF-4FA2-B0B7-E45493D65C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C5542-5FB5-468F-880B-12FCC39AA0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0B4C0-ABD0-4F39-B2F7-CFC6E10970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1EA05-78EC-41B1-A121-C9F8B85F22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DC8E4-AD7C-45D1-8B58-095F1C9AE6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FBEC2-D027-441C-9943-C5935A5E93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B27B8-54C3-4B5C-8519-B3E55A10AC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FDFA5-76FD-4E40-9710-B4B774645C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9BB8F-54BA-4E30-A1F8-7086F2107C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5EFF4-3A83-490B-9825-D982FC2ED7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A60BB-620F-4203-85FB-1FAE62D511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2E933-8FB6-4EBC-A34D-7DC857FA374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3C5BC-7511-448A-AA99-7BD1513CB2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B7169-7A80-4A3D-9960-D574134DD0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858AD-DFF9-4AC3-8981-FEEFFEF7AC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FF551-A965-465F-A554-66B0718580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10F40-5684-437C-AA2D-C8B8351A8C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E941B-2B15-497A-BAFC-F455A2BA7F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FE2D6-0F91-4AFC-B06C-DC15EB079F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E9095-B746-4B61-8288-D701B2C4B0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36065-01F7-47EA-AFB1-6FBEBEFBC4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03077-5040-403F-AB1F-DF22D0666A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0D6A3-A4FA-424F-9D70-419ABF41FC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8C15D-3AA0-40A1-B346-51ED0ECAA9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890D6-39C5-42F0-B969-2E47405755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43AFE-7DCE-4ED4-A4F3-A04E28C6A2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68A5A-A209-41B6-B85E-3F1999A046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BE36A-071F-4EC7-BA6B-75CCDC855C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EC425-D054-48BE-8E03-73A487A42F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B9188-9D20-491D-9098-2C67B8F83AB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127DD-CE25-4281-A261-3ABE44B34FC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FE822-7F66-4AE7-885C-AD5140C8C80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E71FE-A30A-42D1-A42F-89B62C90DBC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9F9F7-969D-49C3-8738-8A6251E6A2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F97E2-9AE5-4672-816A-FA4C099B61A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B121B-3956-4522-B72A-B5EE91243C9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2CA66-48E4-4FD5-B0D5-80315AB9B04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E0E9E-4959-41AB-A3E1-175691BF780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A587D-7742-419D-AE4F-E0CA7C01205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7FE26-4019-4173-8B59-862825F36AA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45929-77EE-4294-B3C6-63623E34753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DAB3A-0137-408F-83B8-67BA876285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A6D1E-4410-4962-8544-0C458EDCAB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B323B-7FB2-4120-8678-A62FA56736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DD56E-9941-40E0-97A8-16846C21CA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83706-FB04-4A83-BCC1-AFE9C80208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2C32A-FA57-4C3B-A9A9-B64E9A8DAA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5ECE0-D04B-48BB-91F2-235485A4AE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74C63-D811-45A1-BC5E-E737004945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6A0A0-97A6-41D0-92BB-0BEE824776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058B5-00D8-488D-98A2-ECFE93EAC8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25F87-6878-453A-BC53-BDE4822800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4CC97-5A17-4314-B1CC-C348D64288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15F31-5C99-488E-81EA-8D440D5D14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CEB0F-F089-4965-A3B3-6A6081A05C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0EABE-5112-442A-9684-AEE9F0D4C6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95F45-7D0E-4DE3-ABAB-72286FF5BC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B796C-BF13-49BB-859C-075454FEBD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A8B82-ED84-4A51-A333-D933CA4556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175C2-055B-4885-A408-3D32523969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41167-3AC0-4C39-B49E-B3E848D9C5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1DFEB-F287-4D3F-BA78-B0C191DC49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9B403-E7B6-4406-AB2D-868F31FC53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8ECD1C-9F89-4AD7-8906-AD20DB56D9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6769C-D938-4941-9F7A-12334B6E51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F90E5-5640-4CA2-8BD1-B64FAF8389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6B1E2-8D10-4F38-A81E-DBF4B5E1A9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29438-C42F-4EE9-AF3C-DDC2D83994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D4B2D-DF05-4901-A218-20F9AD8FEE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E4903-3EDE-4BE2-9D3A-A7849067AC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9B527-9B8F-404A-ACBF-EC672D97C9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4228C-6426-470E-B0B0-2D303EC051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C70BC-DC49-4306-8928-AACE865A42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25D60-B2C7-4B86-99B1-3D2EC0A75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9765C-0B9C-4A7D-8A71-94191E1BCE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112A6-9439-42A9-9054-111B27C9BB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D211F-86C2-4C82-8BEB-74794572AD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A36AF-49AD-4931-97B9-33977A07C2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4CB3A-D9ED-47D8-9344-3B5C0E1B39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38F7B-EA30-42C1-AC06-F19E984E6E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DC0A3-D076-4E07-B446-90A5D4FE7F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0D687-FDC9-4100-9C34-61A820A896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9CD1F-4DCC-48EB-AFFC-90AB2B382D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BC898-462D-4B66-B3DD-55819CE3F1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F6A46-81BB-4D0E-92CB-B7919E7818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A7F04-E40C-4CA0-8C21-3F6EA5F872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A9C62-9E9D-4E58-8715-022388AE2D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5924E-D6E6-41EB-B48C-4878EFCFFC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3AC7A-4FAD-4BF5-8DCE-CA080C9BFB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13B2D-093D-4825-B666-753AB412D7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B5CA0-B8CC-4083-B00E-2A76FE6D42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5FB04-4E47-43D3-8300-CB672635DA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E3283-85E6-4C1A-9E6E-5FE796797C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3AE6C-BA34-46D5-A1B4-8A151423EA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9EEA0-6703-453F-BCCA-8EAE4E78CC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B9E12-2E83-4795-87B6-2050DC3A68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71FE0-F859-4B31-9F73-E041C303A4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B4A50-81FE-4A70-BD06-BBD86E9B57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F1D12-49C2-4162-89C7-752D57F475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305FD-C792-4F5E-A21B-FC68C4B49B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26E87-C0FF-4D37-A703-45DFA6B21D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9F76C-6CFF-4ADE-A7C6-DF6DF0FF0D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796BA-9AE1-406E-BB89-210BA6C7CC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1D830-473D-4FDE-98CE-AF1AA286A1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B1BCF-6C17-4CC5-BB19-E5385FD5F0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154E6-3C22-427C-806B-A2FA77F929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326C6-14BD-4CEB-BE53-F4595C0768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AA44B-11DE-4A07-B83D-8D23F28DC8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FA6AB-4832-4F70-8D00-9B3957E9D2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387A6-7B8D-4F33-87C5-5372ADB45A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6F816-00EA-44AE-A7D8-91280F10B7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FFE4B-1321-40FD-ABA6-88070C335A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F55A6-CD1E-4E1F-AABE-3777C46C0D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40FD0-4978-40EE-A6AA-D4A2A07A1C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E4B40-18D2-4DC5-BF3C-1C361338FD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889CF-C4F3-4325-8C4C-F6A9A016D9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E5500-F480-40E5-B627-D259B3ED7B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2361A-F523-4D2C-84D0-06C10C52EC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B85F9-BFD7-43B6-8289-6595638DA9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09AB6-B228-44F0-B196-CE95449995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C8D2D-1DA7-47A3-A163-A16A4E925C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ACA58-52C1-4C5F-9C79-23899B84C3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7AEA2-6F06-4187-AADE-7EEFE1E4D7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FD14B-5BAF-4922-ADFB-48B666DC21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ED472-8E12-4A8F-A3CC-A162613E19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C8FC7-F815-4D43-B095-0EA6E6015F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14C54-BD8F-4C45-8547-A6B90BBC9B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0B996-7B54-4F6E-B32F-465B974195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A139D-62A5-4978-8077-10C54B1AEB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DBE78-C670-4D34-B5FA-1B499198F0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151F4-9949-4576-A492-2D9DA50DC1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905D6-BE5B-41F0-BD1E-C4C9EDD603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D1B2B-9941-4130-8B38-ACC8271DFC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ffffff"/>
              </a:solidFill>
              <a:latin typeface="Times New Roman"/>
            </a:endParaRPr>
          </a:p>
        </p:txBody>
      </p:sp>
      <p:grpSp>
        <p:nvGrpSpPr>
          <p:cNvPr id="7284" name="Group 2"/>
          <p:cNvGrpSpPr/>
          <p:nvPr/>
        </p:nvGrpSpPr>
        <p:grpSpPr>
          <a:xfrm>
            <a:off x="0" y="115920"/>
            <a:ext cx="9140760" cy="6548400"/>
            <a:chOff x="0" y="115920"/>
            <a:chExt cx="9140760" cy="6548400"/>
          </a:xfrm>
        </p:grpSpPr>
        <p:grpSp>
          <p:nvGrpSpPr>
            <p:cNvPr id="7285" name="Group 3"/>
            <p:cNvGrpSpPr/>
            <p:nvPr/>
          </p:nvGrpSpPr>
          <p:grpSpPr>
            <a:xfrm>
              <a:off x="0" y="115920"/>
              <a:ext cx="9140760" cy="6548400"/>
              <a:chOff x="0" y="115920"/>
              <a:chExt cx="9140760" cy="6548400"/>
            </a:xfrm>
          </p:grpSpPr>
          <p:sp>
            <p:nvSpPr>
              <p:cNvPr id="72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1"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ffffff"/>
              </a:solidFill>
              <a:latin typeface="Times New Roman"/>
            </a:endParaRPr>
          </a:p>
        </p:txBody>
      </p:sp>
      <p:grpSp>
        <p:nvGrpSpPr>
          <p:cNvPr id="7293" name="Group 2"/>
          <p:cNvGrpSpPr/>
          <p:nvPr/>
        </p:nvGrpSpPr>
        <p:grpSpPr>
          <a:xfrm>
            <a:off x="0" y="115920"/>
            <a:ext cx="9140760" cy="6548400"/>
            <a:chOff x="0" y="115920"/>
            <a:chExt cx="9140760" cy="6548400"/>
          </a:xfrm>
        </p:grpSpPr>
        <p:grpSp>
          <p:nvGrpSpPr>
            <p:cNvPr id="7294" name="Group 3"/>
            <p:cNvGrpSpPr/>
            <p:nvPr/>
          </p:nvGrpSpPr>
          <p:grpSpPr>
            <a:xfrm>
              <a:off x="0" y="115920"/>
              <a:ext cx="9140760" cy="6548400"/>
              <a:chOff x="0" y="115920"/>
              <a:chExt cx="9140760" cy="6548400"/>
            </a:xfrm>
          </p:grpSpPr>
          <p:sp>
            <p:nvSpPr>
              <p:cNvPr id="72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0" name="Picture 9"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1"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ffffff"/>
              </a:solidFill>
              <a:latin typeface="Times New Roman"/>
            </a:endParaRPr>
          </a:p>
        </p:txBody>
      </p:sp>
      <p:grpSp>
        <p:nvGrpSpPr>
          <p:cNvPr id="7302" name="Group 2"/>
          <p:cNvGrpSpPr/>
          <p:nvPr/>
        </p:nvGrpSpPr>
        <p:grpSpPr>
          <a:xfrm>
            <a:off x="0" y="115920"/>
            <a:ext cx="9140760" cy="6548400"/>
            <a:chOff x="0" y="115920"/>
            <a:chExt cx="9140760" cy="6548400"/>
          </a:xfrm>
        </p:grpSpPr>
        <p:grpSp>
          <p:nvGrpSpPr>
            <p:cNvPr id="7303" name="Group 3"/>
            <p:cNvGrpSpPr/>
            <p:nvPr/>
          </p:nvGrpSpPr>
          <p:grpSpPr>
            <a:xfrm>
              <a:off x="0" y="115920"/>
              <a:ext cx="9140760" cy="6548400"/>
              <a:chOff x="0" y="115920"/>
              <a:chExt cx="9140760" cy="6548400"/>
            </a:xfrm>
          </p:grpSpPr>
          <p:sp>
            <p:nvSpPr>
              <p:cNvPr id="73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9" name="Picture 9"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ffffff"/>
              </a:solidFill>
              <a:latin typeface="Times New Roman"/>
            </a:endParaRPr>
          </a:p>
        </p:txBody>
      </p:sp>
      <p:grpSp>
        <p:nvGrpSpPr>
          <p:cNvPr id="7311" name="Group 2"/>
          <p:cNvGrpSpPr/>
          <p:nvPr/>
        </p:nvGrpSpPr>
        <p:grpSpPr>
          <a:xfrm>
            <a:off x="0" y="115920"/>
            <a:ext cx="9140760" cy="6548400"/>
            <a:chOff x="0" y="115920"/>
            <a:chExt cx="9140760" cy="6548400"/>
          </a:xfrm>
        </p:grpSpPr>
        <p:grpSp>
          <p:nvGrpSpPr>
            <p:cNvPr id="7312" name="Group 3"/>
            <p:cNvGrpSpPr/>
            <p:nvPr/>
          </p:nvGrpSpPr>
          <p:grpSpPr>
            <a:xfrm>
              <a:off x="0" y="115920"/>
              <a:ext cx="9140760" cy="6548400"/>
              <a:chOff x="0" y="115920"/>
              <a:chExt cx="9140760" cy="6548400"/>
            </a:xfrm>
          </p:grpSpPr>
          <p:sp>
            <p:nvSpPr>
              <p:cNvPr id="73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8" name="Picture 9"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ffffff"/>
              </a:solidFill>
              <a:latin typeface="Times New Roman"/>
            </a:endParaRPr>
          </a:p>
        </p:txBody>
      </p:sp>
      <p:grpSp>
        <p:nvGrpSpPr>
          <p:cNvPr id="7320" name="Group 2"/>
          <p:cNvGrpSpPr/>
          <p:nvPr/>
        </p:nvGrpSpPr>
        <p:grpSpPr>
          <a:xfrm>
            <a:off x="0" y="115920"/>
            <a:ext cx="9140760" cy="6548400"/>
            <a:chOff x="0" y="115920"/>
            <a:chExt cx="9140760" cy="6548400"/>
          </a:xfrm>
        </p:grpSpPr>
        <p:grpSp>
          <p:nvGrpSpPr>
            <p:cNvPr id="7321" name="Group 3"/>
            <p:cNvGrpSpPr/>
            <p:nvPr/>
          </p:nvGrpSpPr>
          <p:grpSpPr>
            <a:xfrm>
              <a:off x="0" y="115920"/>
              <a:ext cx="9140760" cy="6548400"/>
              <a:chOff x="0" y="115920"/>
              <a:chExt cx="9140760" cy="6548400"/>
            </a:xfrm>
          </p:grpSpPr>
          <p:sp>
            <p:nvSpPr>
              <p:cNvPr id="73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27" name="Picture 9"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ffffff"/>
              </a:solidFill>
              <a:latin typeface="Times New Roman"/>
            </a:endParaRPr>
          </a:p>
        </p:txBody>
      </p:sp>
      <p:grpSp>
        <p:nvGrpSpPr>
          <p:cNvPr id="7329" name="Group 2"/>
          <p:cNvGrpSpPr/>
          <p:nvPr/>
        </p:nvGrpSpPr>
        <p:grpSpPr>
          <a:xfrm>
            <a:off x="0" y="115920"/>
            <a:ext cx="9140760" cy="6548400"/>
            <a:chOff x="0" y="115920"/>
            <a:chExt cx="9140760" cy="6548400"/>
          </a:xfrm>
        </p:grpSpPr>
        <p:grpSp>
          <p:nvGrpSpPr>
            <p:cNvPr id="7330" name="Group 3"/>
            <p:cNvGrpSpPr/>
            <p:nvPr/>
          </p:nvGrpSpPr>
          <p:grpSpPr>
            <a:xfrm>
              <a:off x="0" y="115920"/>
              <a:ext cx="9140760" cy="6548400"/>
              <a:chOff x="0" y="115920"/>
              <a:chExt cx="9140760" cy="6548400"/>
            </a:xfrm>
          </p:grpSpPr>
          <p:sp>
            <p:nvSpPr>
              <p:cNvPr id="73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36" name="Picture 9"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ffffff"/>
              </a:solidFill>
              <a:latin typeface="Times New Roman"/>
            </a:endParaRPr>
          </a:p>
        </p:txBody>
      </p:sp>
      <p:grpSp>
        <p:nvGrpSpPr>
          <p:cNvPr id="7338" name="Group 2"/>
          <p:cNvGrpSpPr/>
          <p:nvPr/>
        </p:nvGrpSpPr>
        <p:grpSpPr>
          <a:xfrm>
            <a:off x="0" y="115920"/>
            <a:ext cx="9140760" cy="6548400"/>
            <a:chOff x="0" y="115920"/>
            <a:chExt cx="9140760" cy="6548400"/>
          </a:xfrm>
        </p:grpSpPr>
        <p:grpSp>
          <p:nvGrpSpPr>
            <p:cNvPr id="7339" name="Group 3"/>
            <p:cNvGrpSpPr/>
            <p:nvPr/>
          </p:nvGrpSpPr>
          <p:grpSpPr>
            <a:xfrm>
              <a:off x="0" y="115920"/>
              <a:ext cx="9140760" cy="6548400"/>
              <a:chOff x="0" y="115920"/>
              <a:chExt cx="9140760" cy="6548400"/>
            </a:xfrm>
          </p:grpSpPr>
          <p:sp>
            <p:nvSpPr>
              <p:cNvPr id="73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45" name="Picture 9"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ffffff"/>
              </a:solidFill>
              <a:latin typeface="Times New Roman"/>
            </a:endParaRPr>
          </a:p>
        </p:txBody>
      </p:sp>
      <p:grpSp>
        <p:nvGrpSpPr>
          <p:cNvPr id="7347" name="Group 2"/>
          <p:cNvGrpSpPr/>
          <p:nvPr/>
        </p:nvGrpSpPr>
        <p:grpSpPr>
          <a:xfrm>
            <a:off x="0" y="115920"/>
            <a:ext cx="9140760" cy="6548400"/>
            <a:chOff x="0" y="115920"/>
            <a:chExt cx="9140760" cy="6548400"/>
          </a:xfrm>
        </p:grpSpPr>
        <p:grpSp>
          <p:nvGrpSpPr>
            <p:cNvPr id="7348" name="Group 3"/>
            <p:cNvGrpSpPr/>
            <p:nvPr/>
          </p:nvGrpSpPr>
          <p:grpSpPr>
            <a:xfrm>
              <a:off x="0" y="115920"/>
              <a:ext cx="9140760" cy="6548400"/>
              <a:chOff x="0" y="115920"/>
              <a:chExt cx="9140760" cy="6548400"/>
            </a:xfrm>
          </p:grpSpPr>
          <p:sp>
            <p:nvSpPr>
              <p:cNvPr id="73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54" name="Picture 9"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ffffff"/>
              </a:solidFill>
              <a:latin typeface="Times New Roman"/>
            </a:endParaRPr>
          </a:p>
        </p:txBody>
      </p:sp>
      <p:grpSp>
        <p:nvGrpSpPr>
          <p:cNvPr id="7356" name="Group 2"/>
          <p:cNvGrpSpPr/>
          <p:nvPr/>
        </p:nvGrpSpPr>
        <p:grpSpPr>
          <a:xfrm>
            <a:off x="0" y="115920"/>
            <a:ext cx="9140760" cy="6548400"/>
            <a:chOff x="0" y="115920"/>
            <a:chExt cx="9140760" cy="6548400"/>
          </a:xfrm>
        </p:grpSpPr>
        <p:grpSp>
          <p:nvGrpSpPr>
            <p:cNvPr id="7357" name="Group 3"/>
            <p:cNvGrpSpPr/>
            <p:nvPr/>
          </p:nvGrpSpPr>
          <p:grpSpPr>
            <a:xfrm>
              <a:off x="0" y="115920"/>
              <a:ext cx="9140760" cy="6548400"/>
              <a:chOff x="0" y="115920"/>
              <a:chExt cx="9140760" cy="6548400"/>
            </a:xfrm>
          </p:grpSpPr>
          <p:sp>
            <p:nvSpPr>
              <p:cNvPr id="73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63" name="Picture 9"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4" name="Text Box 1"/>
          <p:cNvSpPr/>
          <p:nvPr/>
        </p:nvSpPr>
        <p:spPr>
          <a:xfrm>
            <a:off x="468360" y="1052640"/>
            <a:ext cx="8496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7365" name="Group 2"/>
          <p:cNvGrpSpPr/>
          <p:nvPr/>
        </p:nvGrpSpPr>
        <p:grpSpPr>
          <a:xfrm>
            <a:off x="0" y="115920"/>
            <a:ext cx="9140760" cy="6548400"/>
            <a:chOff x="0" y="115920"/>
            <a:chExt cx="9140760" cy="6548400"/>
          </a:xfrm>
        </p:grpSpPr>
        <p:grpSp>
          <p:nvGrpSpPr>
            <p:cNvPr id="7366" name="Group 3"/>
            <p:cNvGrpSpPr/>
            <p:nvPr/>
          </p:nvGrpSpPr>
          <p:grpSpPr>
            <a:xfrm>
              <a:off x="0" y="115920"/>
              <a:ext cx="9140760" cy="6548400"/>
              <a:chOff x="0" y="115920"/>
              <a:chExt cx="9140760" cy="6548400"/>
            </a:xfrm>
          </p:grpSpPr>
          <p:sp>
            <p:nvSpPr>
              <p:cNvPr id="73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2"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0" y="1392120"/>
            <a:ext cx="874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ffffff"/>
              </a:solidFill>
              <a:latin typeface="Times New Roman"/>
            </a:endParaRPr>
          </a:p>
        </p:txBody>
      </p:sp>
      <p:grpSp>
        <p:nvGrpSpPr>
          <p:cNvPr id="7374" name="Group 2"/>
          <p:cNvGrpSpPr/>
          <p:nvPr/>
        </p:nvGrpSpPr>
        <p:grpSpPr>
          <a:xfrm>
            <a:off x="0" y="115920"/>
            <a:ext cx="9140760" cy="6548400"/>
            <a:chOff x="0" y="115920"/>
            <a:chExt cx="9140760" cy="6548400"/>
          </a:xfrm>
        </p:grpSpPr>
        <p:grpSp>
          <p:nvGrpSpPr>
            <p:cNvPr id="7375" name="Group 3"/>
            <p:cNvGrpSpPr/>
            <p:nvPr/>
          </p:nvGrpSpPr>
          <p:grpSpPr>
            <a:xfrm>
              <a:off x="0" y="115920"/>
              <a:ext cx="9140760" cy="6548400"/>
              <a:chOff x="0" y="115920"/>
              <a:chExt cx="9140760" cy="6548400"/>
            </a:xfrm>
          </p:grpSpPr>
          <p:sp>
            <p:nvSpPr>
              <p:cNvPr id="73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1" name="Picture 9"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ffffff"/>
              </a:solidFill>
              <a:latin typeface="Times New Roman"/>
            </a:endParaRPr>
          </a:p>
        </p:txBody>
      </p:sp>
      <p:grpSp>
        <p:nvGrpSpPr>
          <p:cNvPr id="7383" name="Group 2"/>
          <p:cNvGrpSpPr/>
          <p:nvPr/>
        </p:nvGrpSpPr>
        <p:grpSpPr>
          <a:xfrm>
            <a:off x="0" y="115920"/>
            <a:ext cx="9140760" cy="6548400"/>
            <a:chOff x="0" y="115920"/>
            <a:chExt cx="9140760" cy="6548400"/>
          </a:xfrm>
        </p:grpSpPr>
        <p:grpSp>
          <p:nvGrpSpPr>
            <p:cNvPr id="7384" name="Group 3"/>
            <p:cNvGrpSpPr/>
            <p:nvPr/>
          </p:nvGrpSpPr>
          <p:grpSpPr>
            <a:xfrm>
              <a:off x="0" y="115920"/>
              <a:ext cx="9140760" cy="6548400"/>
              <a:chOff x="0" y="115920"/>
              <a:chExt cx="9140760" cy="6548400"/>
            </a:xfrm>
          </p:grpSpPr>
          <p:sp>
            <p:nvSpPr>
              <p:cNvPr id="73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0" name="Picture 9"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1"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ffffff"/>
              </a:solidFill>
              <a:latin typeface="Times New Roman"/>
            </a:endParaRPr>
          </a:p>
        </p:txBody>
      </p:sp>
      <p:grpSp>
        <p:nvGrpSpPr>
          <p:cNvPr id="7392" name="Group 2"/>
          <p:cNvGrpSpPr/>
          <p:nvPr/>
        </p:nvGrpSpPr>
        <p:grpSpPr>
          <a:xfrm>
            <a:off x="0" y="115920"/>
            <a:ext cx="9140760" cy="6548400"/>
            <a:chOff x="0" y="115920"/>
            <a:chExt cx="9140760" cy="6548400"/>
          </a:xfrm>
        </p:grpSpPr>
        <p:grpSp>
          <p:nvGrpSpPr>
            <p:cNvPr id="7393" name="Group 3"/>
            <p:cNvGrpSpPr/>
            <p:nvPr/>
          </p:nvGrpSpPr>
          <p:grpSpPr>
            <a:xfrm>
              <a:off x="0" y="115920"/>
              <a:ext cx="9140760" cy="6548400"/>
              <a:chOff x="0" y="115920"/>
              <a:chExt cx="9140760" cy="6548400"/>
            </a:xfrm>
          </p:grpSpPr>
          <p:sp>
            <p:nvSpPr>
              <p:cNvPr id="73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9" name="Picture 9"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0"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ffffff"/>
              </a:solidFill>
              <a:latin typeface="Times New Roman"/>
            </a:endParaRPr>
          </a:p>
        </p:txBody>
      </p:sp>
      <p:grpSp>
        <p:nvGrpSpPr>
          <p:cNvPr id="7401" name="Group 2"/>
          <p:cNvGrpSpPr/>
          <p:nvPr/>
        </p:nvGrpSpPr>
        <p:grpSpPr>
          <a:xfrm>
            <a:off x="0" y="115920"/>
            <a:ext cx="9140760" cy="6548400"/>
            <a:chOff x="0" y="115920"/>
            <a:chExt cx="9140760" cy="6548400"/>
          </a:xfrm>
        </p:grpSpPr>
        <p:grpSp>
          <p:nvGrpSpPr>
            <p:cNvPr id="7402" name="Group 3"/>
            <p:cNvGrpSpPr/>
            <p:nvPr/>
          </p:nvGrpSpPr>
          <p:grpSpPr>
            <a:xfrm>
              <a:off x="0" y="115920"/>
              <a:ext cx="9140760" cy="6548400"/>
              <a:chOff x="0" y="115920"/>
              <a:chExt cx="9140760" cy="6548400"/>
            </a:xfrm>
          </p:grpSpPr>
          <p:sp>
            <p:nvSpPr>
              <p:cNvPr id="74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08" name="Picture 9"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9"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ffffff"/>
              </a:solidFill>
              <a:latin typeface="Times New Roman"/>
            </a:endParaRPr>
          </a:p>
        </p:txBody>
      </p:sp>
      <p:grpSp>
        <p:nvGrpSpPr>
          <p:cNvPr id="7410" name="Group 2"/>
          <p:cNvGrpSpPr/>
          <p:nvPr/>
        </p:nvGrpSpPr>
        <p:grpSpPr>
          <a:xfrm>
            <a:off x="0" y="115920"/>
            <a:ext cx="9140760" cy="6548400"/>
            <a:chOff x="0" y="115920"/>
            <a:chExt cx="9140760" cy="6548400"/>
          </a:xfrm>
        </p:grpSpPr>
        <p:grpSp>
          <p:nvGrpSpPr>
            <p:cNvPr id="7411" name="Group 3"/>
            <p:cNvGrpSpPr/>
            <p:nvPr/>
          </p:nvGrpSpPr>
          <p:grpSpPr>
            <a:xfrm>
              <a:off x="0" y="115920"/>
              <a:ext cx="9140760" cy="6548400"/>
              <a:chOff x="0" y="115920"/>
              <a:chExt cx="9140760" cy="6548400"/>
            </a:xfrm>
          </p:grpSpPr>
          <p:sp>
            <p:nvSpPr>
              <p:cNvPr id="74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17" name="Picture 9"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ffffff"/>
              </a:solidFill>
              <a:latin typeface="Times New Roman"/>
            </a:endParaRPr>
          </a:p>
        </p:txBody>
      </p:sp>
      <p:grpSp>
        <p:nvGrpSpPr>
          <p:cNvPr id="7419" name="Group 2"/>
          <p:cNvGrpSpPr/>
          <p:nvPr/>
        </p:nvGrpSpPr>
        <p:grpSpPr>
          <a:xfrm>
            <a:off x="0" y="115920"/>
            <a:ext cx="9140760" cy="6548400"/>
            <a:chOff x="0" y="115920"/>
            <a:chExt cx="9140760" cy="6548400"/>
          </a:xfrm>
        </p:grpSpPr>
        <p:grpSp>
          <p:nvGrpSpPr>
            <p:cNvPr id="7420" name="Group 3"/>
            <p:cNvGrpSpPr/>
            <p:nvPr/>
          </p:nvGrpSpPr>
          <p:grpSpPr>
            <a:xfrm>
              <a:off x="0" y="115920"/>
              <a:ext cx="9140760" cy="6548400"/>
              <a:chOff x="0" y="115920"/>
              <a:chExt cx="9140760" cy="6548400"/>
            </a:xfrm>
          </p:grpSpPr>
          <p:sp>
            <p:nvSpPr>
              <p:cNvPr id="74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26" name="Picture 9"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ffffff"/>
              </a:solidFill>
              <a:latin typeface="Times New Roman"/>
            </a:endParaRPr>
          </a:p>
        </p:txBody>
      </p:sp>
      <p:grpSp>
        <p:nvGrpSpPr>
          <p:cNvPr id="7428" name="Group 2"/>
          <p:cNvGrpSpPr/>
          <p:nvPr/>
        </p:nvGrpSpPr>
        <p:grpSpPr>
          <a:xfrm>
            <a:off x="0" y="115920"/>
            <a:ext cx="9140760" cy="6548400"/>
            <a:chOff x="0" y="115920"/>
            <a:chExt cx="9140760" cy="6548400"/>
          </a:xfrm>
        </p:grpSpPr>
        <p:grpSp>
          <p:nvGrpSpPr>
            <p:cNvPr id="7429" name="Group 3"/>
            <p:cNvGrpSpPr/>
            <p:nvPr/>
          </p:nvGrpSpPr>
          <p:grpSpPr>
            <a:xfrm>
              <a:off x="0" y="115920"/>
              <a:ext cx="9140760" cy="6548400"/>
              <a:chOff x="0" y="115920"/>
              <a:chExt cx="9140760" cy="6548400"/>
            </a:xfrm>
          </p:grpSpPr>
          <p:sp>
            <p:nvSpPr>
              <p:cNvPr id="74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35" name="Picture 9"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ffffff"/>
              </a:solidFill>
              <a:latin typeface="Times New Roman"/>
            </a:endParaRPr>
          </a:p>
        </p:txBody>
      </p:sp>
      <p:grpSp>
        <p:nvGrpSpPr>
          <p:cNvPr id="7437" name="Group 2"/>
          <p:cNvGrpSpPr/>
          <p:nvPr/>
        </p:nvGrpSpPr>
        <p:grpSpPr>
          <a:xfrm>
            <a:off x="0" y="115920"/>
            <a:ext cx="9140760" cy="6548400"/>
            <a:chOff x="0" y="115920"/>
            <a:chExt cx="9140760" cy="6548400"/>
          </a:xfrm>
        </p:grpSpPr>
        <p:grpSp>
          <p:nvGrpSpPr>
            <p:cNvPr id="7438" name="Group 3"/>
            <p:cNvGrpSpPr/>
            <p:nvPr/>
          </p:nvGrpSpPr>
          <p:grpSpPr>
            <a:xfrm>
              <a:off x="0" y="115920"/>
              <a:ext cx="9140760" cy="6548400"/>
              <a:chOff x="0" y="115920"/>
              <a:chExt cx="9140760" cy="6548400"/>
            </a:xfrm>
          </p:grpSpPr>
          <p:sp>
            <p:nvSpPr>
              <p:cNvPr id="74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44" name="Picture 9"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5" name="Text Box 1"/>
          <p:cNvSpPr/>
          <p:nvPr/>
        </p:nvSpPr>
        <p:spPr>
          <a:xfrm>
            <a:off x="611280" y="1392120"/>
            <a:ext cx="8281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ffffff"/>
              </a:solidFill>
              <a:latin typeface="Times New Roman"/>
            </a:endParaRPr>
          </a:p>
        </p:txBody>
      </p:sp>
      <p:grpSp>
        <p:nvGrpSpPr>
          <p:cNvPr id="7446" name="Group 2"/>
          <p:cNvGrpSpPr/>
          <p:nvPr/>
        </p:nvGrpSpPr>
        <p:grpSpPr>
          <a:xfrm>
            <a:off x="0" y="115920"/>
            <a:ext cx="9140760" cy="6548400"/>
            <a:chOff x="0" y="115920"/>
            <a:chExt cx="9140760" cy="6548400"/>
          </a:xfrm>
        </p:grpSpPr>
        <p:grpSp>
          <p:nvGrpSpPr>
            <p:cNvPr id="7447" name="Group 3"/>
            <p:cNvGrpSpPr/>
            <p:nvPr/>
          </p:nvGrpSpPr>
          <p:grpSpPr>
            <a:xfrm>
              <a:off x="0" y="115920"/>
              <a:ext cx="9140760" cy="6548400"/>
              <a:chOff x="0" y="115920"/>
              <a:chExt cx="9140760" cy="6548400"/>
            </a:xfrm>
          </p:grpSpPr>
          <p:sp>
            <p:nvSpPr>
              <p:cNvPr id="74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53" name="Picture 9"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ffffff"/>
              </a:solidFill>
              <a:latin typeface="Times New Roman"/>
            </a:endParaRPr>
          </a:p>
        </p:txBody>
      </p:sp>
      <p:grpSp>
        <p:nvGrpSpPr>
          <p:cNvPr id="7455" name="Group 2"/>
          <p:cNvGrpSpPr/>
          <p:nvPr/>
        </p:nvGrpSpPr>
        <p:grpSpPr>
          <a:xfrm>
            <a:off x="0" y="115920"/>
            <a:ext cx="9140760" cy="6548400"/>
            <a:chOff x="0" y="115920"/>
            <a:chExt cx="9140760" cy="6548400"/>
          </a:xfrm>
        </p:grpSpPr>
        <p:grpSp>
          <p:nvGrpSpPr>
            <p:cNvPr id="7456" name="Group 3"/>
            <p:cNvGrpSpPr/>
            <p:nvPr/>
          </p:nvGrpSpPr>
          <p:grpSpPr>
            <a:xfrm>
              <a:off x="0" y="115920"/>
              <a:ext cx="9140760" cy="6548400"/>
              <a:chOff x="0" y="115920"/>
              <a:chExt cx="9140760" cy="6548400"/>
            </a:xfrm>
          </p:grpSpPr>
          <p:sp>
            <p:nvSpPr>
              <p:cNvPr id="74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2"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464" name="Picture 2" descr=""/>
          <p:cNvPicPr/>
          <p:nvPr/>
        </p:nvPicPr>
        <p:blipFill>
          <a:blip r:embed="rId1"/>
          <a:stretch/>
        </p:blipFill>
        <p:spPr>
          <a:xfrm>
            <a:off x="0" y="0"/>
            <a:ext cx="9144000" cy="1368360"/>
          </a:xfrm>
          <a:prstGeom prst="rect">
            <a:avLst/>
          </a:prstGeom>
          <a:ln w="0">
            <a:noFill/>
          </a:ln>
        </p:spPr>
      </p:pic>
      <p:pic>
        <p:nvPicPr>
          <p:cNvPr id="7465" name="Picture 3" descr=""/>
          <p:cNvPicPr/>
          <p:nvPr/>
        </p:nvPicPr>
        <p:blipFill>
          <a:blip r:embed="rId2"/>
          <a:stretch/>
        </p:blipFill>
        <p:spPr>
          <a:xfrm>
            <a:off x="1258920" y="2060640"/>
            <a:ext cx="1297080" cy="1528560"/>
          </a:xfrm>
          <a:prstGeom prst="rect">
            <a:avLst/>
          </a:prstGeom>
          <a:ln w="0">
            <a:noFill/>
          </a:ln>
        </p:spPr>
      </p:pic>
      <p:pic>
        <p:nvPicPr>
          <p:cNvPr id="7466" name="Picture 4" descr=""/>
          <p:cNvPicPr/>
          <p:nvPr/>
        </p:nvPicPr>
        <p:blipFill>
          <a:blip r:embed="rId3"/>
          <a:stretch/>
        </p:blipFill>
        <p:spPr>
          <a:xfrm>
            <a:off x="6948360" y="1989000"/>
            <a:ext cx="1444680" cy="1573200"/>
          </a:xfrm>
          <a:prstGeom prst="rect">
            <a:avLst/>
          </a:prstGeom>
          <a:ln w="0">
            <a:noFill/>
          </a:ln>
        </p:spPr>
      </p:pic>
      <p:sp>
        <p:nvSpPr>
          <p:cNvPr id="7467"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46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611280" y="907920"/>
            <a:ext cx="828180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611280" y="907920"/>
            <a:ext cx="828180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981000"/>
            <a:ext cx="76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981000"/>
            <a:ext cx="76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981000"/>
            <a:ext cx="8101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39528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052640"/>
            <a:ext cx="8064360" cy="473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684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250920" y="1125360"/>
            <a:ext cx="864216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25092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25092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052640"/>
            <a:ext cx="8064360" cy="473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46836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46836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250920" y="1052640"/>
            <a:ext cx="8713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25092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ffffff"/>
              </a:solidFill>
              <a:latin typeface="Times New Roman"/>
            </a:endParaRPr>
          </a:p>
        </p:txBody>
      </p:sp>
      <p:grpSp>
        <p:nvGrpSpPr>
          <p:cNvPr id="7068" name="Group 2"/>
          <p:cNvGrpSpPr/>
          <p:nvPr/>
        </p:nvGrpSpPr>
        <p:grpSpPr>
          <a:xfrm>
            <a:off x="0" y="115920"/>
            <a:ext cx="9140760" cy="6548400"/>
            <a:chOff x="0" y="115920"/>
            <a:chExt cx="9140760" cy="6548400"/>
          </a:xfrm>
        </p:grpSpPr>
        <p:grpSp>
          <p:nvGrpSpPr>
            <p:cNvPr id="7069" name="Group 3"/>
            <p:cNvGrpSpPr/>
            <p:nvPr/>
          </p:nvGrpSpPr>
          <p:grpSpPr>
            <a:xfrm>
              <a:off x="0" y="115920"/>
              <a:ext cx="9140760" cy="6548400"/>
              <a:chOff x="0" y="115920"/>
              <a:chExt cx="9140760" cy="6548400"/>
            </a:xfrm>
          </p:grpSpPr>
          <p:sp>
            <p:nvSpPr>
              <p:cNvPr id="70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5"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ffffff"/>
              </a:solidFill>
              <a:latin typeface="Times New Roman"/>
            </a:endParaRPr>
          </a:p>
        </p:txBody>
      </p:sp>
      <p:grpSp>
        <p:nvGrpSpPr>
          <p:cNvPr id="7077" name="Group 2"/>
          <p:cNvGrpSpPr/>
          <p:nvPr/>
        </p:nvGrpSpPr>
        <p:grpSpPr>
          <a:xfrm>
            <a:off x="0" y="115920"/>
            <a:ext cx="9140760" cy="6548400"/>
            <a:chOff x="0" y="115920"/>
            <a:chExt cx="9140760" cy="6548400"/>
          </a:xfrm>
        </p:grpSpPr>
        <p:grpSp>
          <p:nvGrpSpPr>
            <p:cNvPr id="7078" name="Group 3"/>
            <p:cNvGrpSpPr/>
            <p:nvPr/>
          </p:nvGrpSpPr>
          <p:grpSpPr>
            <a:xfrm>
              <a:off x="0" y="115920"/>
              <a:ext cx="9140760" cy="6548400"/>
              <a:chOff x="0" y="115920"/>
              <a:chExt cx="9140760" cy="6548400"/>
            </a:xfrm>
          </p:grpSpPr>
          <p:sp>
            <p:nvSpPr>
              <p:cNvPr id="70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4"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ffffff"/>
              </a:solidFill>
              <a:latin typeface="Times New Roman"/>
            </a:endParaRPr>
          </a:p>
        </p:txBody>
      </p:sp>
      <p:grpSp>
        <p:nvGrpSpPr>
          <p:cNvPr id="7086" name="Group 2"/>
          <p:cNvGrpSpPr/>
          <p:nvPr/>
        </p:nvGrpSpPr>
        <p:grpSpPr>
          <a:xfrm>
            <a:off x="0" y="115920"/>
            <a:ext cx="9140760" cy="6548400"/>
            <a:chOff x="0" y="115920"/>
            <a:chExt cx="9140760" cy="6548400"/>
          </a:xfrm>
        </p:grpSpPr>
        <p:grpSp>
          <p:nvGrpSpPr>
            <p:cNvPr id="7087" name="Group 3"/>
            <p:cNvGrpSpPr/>
            <p:nvPr/>
          </p:nvGrpSpPr>
          <p:grpSpPr>
            <a:xfrm>
              <a:off x="0" y="115920"/>
              <a:ext cx="9140760" cy="6548400"/>
              <a:chOff x="0" y="115920"/>
              <a:chExt cx="9140760" cy="6548400"/>
            </a:xfrm>
          </p:grpSpPr>
          <p:sp>
            <p:nvSpPr>
              <p:cNvPr id="70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3"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ffffff"/>
              </a:solidFill>
              <a:latin typeface="Times New Roman"/>
            </a:endParaRPr>
          </a:p>
        </p:txBody>
      </p:sp>
      <p:grpSp>
        <p:nvGrpSpPr>
          <p:cNvPr id="7095" name="Group 2"/>
          <p:cNvGrpSpPr/>
          <p:nvPr/>
        </p:nvGrpSpPr>
        <p:grpSpPr>
          <a:xfrm>
            <a:off x="0" y="115920"/>
            <a:ext cx="9140760" cy="6548400"/>
            <a:chOff x="0" y="115920"/>
            <a:chExt cx="9140760" cy="6548400"/>
          </a:xfrm>
        </p:grpSpPr>
        <p:grpSp>
          <p:nvGrpSpPr>
            <p:cNvPr id="7096" name="Group 3"/>
            <p:cNvGrpSpPr/>
            <p:nvPr/>
          </p:nvGrpSpPr>
          <p:grpSpPr>
            <a:xfrm>
              <a:off x="0" y="115920"/>
              <a:ext cx="9140760" cy="6548400"/>
              <a:chOff x="0" y="115920"/>
              <a:chExt cx="9140760" cy="6548400"/>
            </a:xfrm>
          </p:grpSpPr>
          <p:sp>
            <p:nvSpPr>
              <p:cNvPr id="70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ffffff"/>
              </a:solidFill>
              <a:latin typeface="Times New Roman"/>
            </a:endParaRPr>
          </a:p>
        </p:txBody>
      </p:sp>
      <p:grpSp>
        <p:nvGrpSpPr>
          <p:cNvPr id="7104" name="Group 2"/>
          <p:cNvGrpSpPr/>
          <p:nvPr/>
        </p:nvGrpSpPr>
        <p:grpSpPr>
          <a:xfrm>
            <a:off x="0" y="115920"/>
            <a:ext cx="9140760" cy="6548400"/>
            <a:chOff x="0" y="115920"/>
            <a:chExt cx="9140760" cy="6548400"/>
          </a:xfrm>
        </p:grpSpPr>
        <p:grpSp>
          <p:nvGrpSpPr>
            <p:cNvPr id="7105" name="Group 3"/>
            <p:cNvGrpSpPr/>
            <p:nvPr/>
          </p:nvGrpSpPr>
          <p:grpSpPr>
            <a:xfrm>
              <a:off x="0" y="115920"/>
              <a:ext cx="9140760" cy="6548400"/>
              <a:chOff x="0" y="115920"/>
              <a:chExt cx="9140760" cy="6548400"/>
            </a:xfrm>
          </p:grpSpPr>
          <p:sp>
            <p:nvSpPr>
              <p:cNvPr id="71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1"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ffffff"/>
              </a:solidFill>
              <a:latin typeface="Times New Roman"/>
            </a:endParaRPr>
          </a:p>
        </p:txBody>
      </p:sp>
      <p:grpSp>
        <p:nvGrpSpPr>
          <p:cNvPr id="7113" name="Group 2"/>
          <p:cNvGrpSpPr/>
          <p:nvPr/>
        </p:nvGrpSpPr>
        <p:grpSpPr>
          <a:xfrm>
            <a:off x="0" y="115920"/>
            <a:ext cx="9140760" cy="6548400"/>
            <a:chOff x="0" y="115920"/>
            <a:chExt cx="9140760" cy="6548400"/>
          </a:xfrm>
        </p:grpSpPr>
        <p:grpSp>
          <p:nvGrpSpPr>
            <p:cNvPr id="7114" name="Group 3"/>
            <p:cNvGrpSpPr/>
            <p:nvPr/>
          </p:nvGrpSpPr>
          <p:grpSpPr>
            <a:xfrm>
              <a:off x="0" y="115920"/>
              <a:ext cx="9140760" cy="6548400"/>
              <a:chOff x="0" y="115920"/>
              <a:chExt cx="9140760" cy="6548400"/>
            </a:xfrm>
          </p:grpSpPr>
          <p:sp>
            <p:nvSpPr>
              <p:cNvPr id="71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0"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1" name="Text Box 1"/>
          <p:cNvSpPr/>
          <p:nvPr/>
        </p:nvSpPr>
        <p:spPr>
          <a:xfrm>
            <a:off x="611280" y="1413000"/>
            <a:ext cx="820872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ffffff"/>
              </a:solidFill>
              <a:latin typeface="Times New Roman"/>
            </a:endParaRPr>
          </a:p>
        </p:txBody>
      </p:sp>
      <p:grpSp>
        <p:nvGrpSpPr>
          <p:cNvPr id="7122" name="Group 2"/>
          <p:cNvGrpSpPr/>
          <p:nvPr/>
        </p:nvGrpSpPr>
        <p:grpSpPr>
          <a:xfrm>
            <a:off x="0" y="115920"/>
            <a:ext cx="9140760" cy="6548400"/>
            <a:chOff x="0" y="115920"/>
            <a:chExt cx="9140760" cy="6548400"/>
          </a:xfrm>
        </p:grpSpPr>
        <p:grpSp>
          <p:nvGrpSpPr>
            <p:cNvPr id="7123" name="Group 3"/>
            <p:cNvGrpSpPr/>
            <p:nvPr/>
          </p:nvGrpSpPr>
          <p:grpSpPr>
            <a:xfrm>
              <a:off x="0" y="115920"/>
              <a:ext cx="9140760" cy="6548400"/>
              <a:chOff x="0" y="115920"/>
              <a:chExt cx="9140760" cy="6548400"/>
            </a:xfrm>
          </p:grpSpPr>
          <p:sp>
            <p:nvSpPr>
              <p:cNvPr id="71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9"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ffffff"/>
              </a:solidFill>
              <a:latin typeface="Times New Roman"/>
            </a:endParaRPr>
          </a:p>
        </p:txBody>
      </p:sp>
      <p:grpSp>
        <p:nvGrpSpPr>
          <p:cNvPr id="7131" name="Group 2"/>
          <p:cNvGrpSpPr/>
          <p:nvPr/>
        </p:nvGrpSpPr>
        <p:grpSpPr>
          <a:xfrm>
            <a:off x="0" y="115920"/>
            <a:ext cx="9140760" cy="6548400"/>
            <a:chOff x="0" y="115920"/>
            <a:chExt cx="9140760" cy="6548400"/>
          </a:xfrm>
        </p:grpSpPr>
        <p:grpSp>
          <p:nvGrpSpPr>
            <p:cNvPr id="7132" name="Group 3"/>
            <p:cNvGrpSpPr/>
            <p:nvPr/>
          </p:nvGrpSpPr>
          <p:grpSpPr>
            <a:xfrm>
              <a:off x="0" y="115920"/>
              <a:ext cx="9140760" cy="6548400"/>
              <a:chOff x="0" y="115920"/>
              <a:chExt cx="9140760" cy="6548400"/>
            </a:xfrm>
          </p:grpSpPr>
          <p:sp>
            <p:nvSpPr>
              <p:cNvPr id="71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8"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ffffff"/>
              </a:solidFill>
              <a:latin typeface="Times New Roman"/>
            </a:endParaRPr>
          </a:p>
        </p:txBody>
      </p:sp>
      <p:grpSp>
        <p:nvGrpSpPr>
          <p:cNvPr id="7140" name="Group 2"/>
          <p:cNvGrpSpPr/>
          <p:nvPr/>
        </p:nvGrpSpPr>
        <p:grpSpPr>
          <a:xfrm>
            <a:off x="0" y="115920"/>
            <a:ext cx="9140760" cy="6548400"/>
            <a:chOff x="0" y="115920"/>
            <a:chExt cx="9140760" cy="6548400"/>
          </a:xfrm>
        </p:grpSpPr>
        <p:grpSp>
          <p:nvGrpSpPr>
            <p:cNvPr id="7141" name="Group 3"/>
            <p:cNvGrpSpPr/>
            <p:nvPr/>
          </p:nvGrpSpPr>
          <p:grpSpPr>
            <a:xfrm>
              <a:off x="0" y="115920"/>
              <a:ext cx="9140760" cy="6548400"/>
              <a:chOff x="0" y="115920"/>
              <a:chExt cx="9140760" cy="6548400"/>
            </a:xfrm>
          </p:grpSpPr>
          <p:sp>
            <p:nvSpPr>
              <p:cNvPr id="71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7"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8" name="Text Box 1"/>
          <p:cNvSpPr/>
          <p:nvPr/>
        </p:nvSpPr>
        <p:spPr>
          <a:xfrm>
            <a:off x="539640" y="836640"/>
            <a:ext cx="8280360" cy="494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ffffff"/>
              </a:solidFill>
              <a:latin typeface="Times New Roman"/>
            </a:endParaRPr>
          </a:p>
        </p:txBody>
      </p:sp>
      <p:grpSp>
        <p:nvGrpSpPr>
          <p:cNvPr id="7149" name="Group 2"/>
          <p:cNvGrpSpPr/>
          <p:nvPr/>
        </p:nvGrpSpPr>
        <p:grpSpPr>
          <a:xfrm>
            <a:off x="0" y="115920"/>
            <a:ext cx="9140760" cy="6548400"/>
            <a:chOff x="0" y="115920"/>
            <a:chExt cx="9140760" cy="6548400"/>
          </a:xfrm>
        </p:grpSpPr>
        <p:grpSp>
          <p:nvGrpSpPr>
            <p:cNvPr id="7150" name="Group 3"/>
            <p:cNvGrpSpPr/>
            <p:nvPr/>
          </p:nvGrpSpPr>
          <p:grpSpPr>
            <a:xfrm>
              <a:off x="0" y="115920"/>
              <a:ext cx="9140760" cy="6548400"/>
              <a:chOff x="0" y="115920"/>
              <a:chExt cx="9140760" cy="6548400"/>
            </a:xfrm>
          </p:grpSpPr>
          <p:sp>
            <p:nvSpPr>
              <p:cNvPr id="71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6"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ffffff"/>
              </a:solidFill>
              <a:latin typeface="Times New Roman"/>
            </a:endParaRPr>
          </a:p>
        </p:txBody>
      </p:sp>
      <p:grpSp>
        <p:nvGrpSpPr>
          <p:cNvPr id="7158" name="Group 2"/>
          <p:cNvGrpSpPr/>
          <p:nvPr/>
        </p:nvGrpSpPr>
        <p:grpSpPr>
          <a:xfrm>
            <a:off x="0" y="115920"/>
            <a:ext cx="9140760" cy="6548400"/>
            <a:chOff x="0" y="115920"/>
            <a:chExt cx="9140760" cy="6548400"/>
          </a:xfrm>
        </p:grpSpPr>
        <p:grpSp>
          <p:nvGrpSpPr>
            <p:cNvPr id="7159" name="Group 3"/>
            <p:cNvGrpSpPr/>
            <p:nvPr/>
          </p:nvGrpSpPr>
          <p:grpSpPr>
            <a:xfrm>
              <a:off x="0" y="115920"/>
              <a:ext cx="9140760" cy="6548400"/>
              <a:chOff x="0" y="115920"/>
              <a:chExt cx="9140760" cy="6548400"/>
            </a:xfrm>
          </p:grpSpPr>
          <p:sp>
            <p:nvSpPr>
              <p:cNvPr id="71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4" name="Rectangle 8"/>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5"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7167" name="Group 2"/>
          <p:cNvGrpSpPr/>
          <p:nvPr/>
        </p:nvGrpSpPr>
        <p:grpSpPr>
          <a:xfrm>
            <a:off x="0" y="115920"/>
            <a:ext cx="9140760" cy="6548400"/>
            <a:chOff x="0" y="115920"/>
            <a:chExt cx="9140760" cy="6548400"/>
          </a:xfrm>
        </p:grpSpPr>
        <p:grpSp>
          <p:nvGrpSpPr>
            <p:cNvPr id="7168" name="Group 3"/>
            <p:cNvGrpSpPr/>
            <p:nvPr/>
          </p:nvGrpSpPr>
          <p:grpSpPr>
            <a:xfrm>
              <a:off x="0" y="115920"/>
              <a:ext cx="9140760" cy="6548400"/>
              <a:chOff x="0" y="115920"/>
              <a:chExt cx="9140760" cy="6548400"/>
            </a:xfrm>
          </p:grpSpPr>
          <p:sp>
            <p:nvSpPr>
              <p:cNvPr id="71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4"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5" name="Text Box 1"/>
          <p:cNvSpPr/>
          <p:nvPr/>
        </p:nvSpPr>
        <p:spPr>
          <a:xfrm>
            <a:off x="324000" y="1052640"/>
            <a:ext cx="8280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ffffff"/>
              </a:solidFill>
              <a:latin typeface="Times New Roman"/>
            </a:endParaRPr>
          </a:p>
        </p:txBody>
      </p:sp>
      <p:grpSp>
        <p:nvGrpSpPr>
          <p:cNvPr id="7176" name="Group 2"/>
          <p:cNvGrpSpPr/>
          <p:nvPr/>
        </p:nvGrpSpPr>
        <p:grpSpPr>
          <a:xfrm>
            <a:off x="0" y="115920"/>
            <a:ext cx="9140760" cy="6548400"/>
            <a:chOff x="0" y="115920"/>
            <a:chExt cx="9140760" cy="6548400"/>
          </a:xfrm>
        </p:grpSpPr>
        <p:grpSp>
          <p:nvGrpSpPr>
            <p:cNvPr id="7177" name="Group 3"/>
            <p:cNvGrpSpPr/>
            <p:nvPr/>
          </p:nvGrpSpPr>
          <p:grpSpPr>
            <a:xfrm>
              <a:off x="0" y="115920"/>
              <a:ext cx="9140760" cy="6548400"/>
              <a:chOff x="0" y="115920"/>
              <a:chExt cx="9140760" cy="6548400"/>
            </a:xfrm>
          </p:grpSpPr>
          <p:sp>
            <p:nvSpPr>
              <p:cNvPr id="71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3"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ffffff"/>
              </a:solidFill>
              <a:latin typeface="Times New Roman"/>
            </a:endParaRPr>
          </a:p>
        </p:txBody>
      </p:sp>
      <p:grpSp>
        <p:nvGrpSpPr>
          <p:cNvPr id="7185" name="Group 2"/>
          <p:cNvGrpSpPr/>
          <p:nvPr/>
        </p:nvGrpSpPr>
        <p:grpSpPr>
          <a:xfrm>
            <a:off x="0" y="115920"/>
            <a:ext cx="9140760" cy="6548400"/>
            <a:chOff x="0" y="115920"/>
            <a:chExt cx="9140760" cy="6548400"/>
          </a:xfrm>
        </p:grpSpPr>
        <p:grpSp>
          <p:nvGrpSpPr>
            <p:cNvPr id="7186" name="Group 3"/>
            <p:cNvGrpSpPr/>
            <p:nvPr/>
          </p:nvGrpSpPr>
          <p:grpSpPr>
            <a:xfrm>
              <a:off x="0" y="115920"/>
              <a:ext cx="9140760" cy="6548400"/>
              <a:chOff x="0" y="115920"/>
              <a:chExt cx="9140760" cy="6548400"/>
            </a:xfrm>
          </p:grpSpPr>
          <p:sp>
            <p:nvSpPr>
              <p:cNvPr id="71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250920" y="1052640"/>
            <a:ext cx="86421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ffffff"/>
              </a:solidFill>
              <a:latin typeface="Times New Roman"/>
            </a:endParaRPr>
          </a:p>
        </p:txBody>
      </p:sp>
      <p:grpSp>
        <p:nvGrpSpPr>
          <p:cNvPr id="7194" name="Group 2"/>
          <p:cNvGrpSpPr/>
          <p:nvPr/>
        </p:nvGrpSpPr>
        <p:grpSpPr>
          <a:xfrm>
            <a:off x="0" y="115920"/>
            <a:ext cx="9140760" cy="6548400"/>
            <a:chOff x="0" y="115920"/>
            <a:chExt cx="9140760" cy="6548400"/>
          </a:xfrm>
        </p:grpSpPr>
        <p:grpSp>
          <p:nvGrpSpPr>
            <p:cNvPr id="7195" name="Group 3"/>
            <p:cNvGrpSpPr/>
            <p:nvPr/>
          </p:nvGrpSpPr>
          <p:grpSpPr>
            <a:xfrm>
              <a:off x="0" y="115920"/>
              <a:ext cx="9140760" cy="6548400"/>
              <a:chOff x="0" y="115920"/>
              <a:chExt cx="9140760" cy="6548400"/>
            </a:xfrm>
          </p:grpSpPr>
          <p:sp>
            <p:nvSpPr>
              <p:cNvPr id="71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1"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ffffff"/>
              </a:solidFill>
              <a:latin typeface="Times New Roman"/>
            </a:endParaRPr>
          </a:p>
        </p:txBody>
      </p:sp>
      <p:grpSp>
        <p:nvGrpSpPr>
          <p:cNvPr id="7203" name="Group 2"/>
          <p:cNvGrpSpPr/>
          <p:nvPr/>
        </p:nvGrpSpPr>
        <p:grpSpPr>
          <a:xfrm>
            <a:off x="0" y="115920"/>
            <a:ext cx="9140760" cy="6548400"/>
            <a:chOff x="0" y="115920"/>
            <a:chExt cx="9140760" cy="6548400"/>
          </a:xfrm>
        </p:grpSpPr>
        <p:grpSp>
          <p:nvGrpSpPr>
            <p:cNvPr id="7204" name="Group 3"/>
            <p:cNvGrpSpPr/>
            <p:nvPr/>
          </p:nvGrpSpPr>
          <p:grpSpPr>
            <a:xfrm>
              <a:off x="0" y="115920"/>
              <a:ext cx="9140760" cy="6548400"/>
              <a:chOff x="0" y="115920"/>
              <a:chExt cx="9140760" cy="6548400"/>
            </a:xfrm>
          </p:grpSpPr>
          <p:sp>
            <p:nvSpPr>
              <p:cNvPr id="72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0"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ffffff"/>
              </a:solidFill>
              <a:latin typeface="Times New Roman"/>
            </a:endParaRPr>
          </a:p>
        </p:txBody>
      </p:sp>
      <p:grpSp>
        <p:nvGrpSpPr>
          <p:cNvPr id="7212" name="Group 2"/>
          <p:cNvGrpSpPr/>
          <p:nvPr/>
        </p:nvGrpSpPr>
        <p:grpSpPr>
          <a:xfrm>
            <a:off x="0" y="115920"/>
            <a:ext cx="9140760" cy="6548400"/>
            <a:chOff x="0" y="115920"/>
            <a:chExt cx="9140760" cy="6548400"/>
          </a:xfrm>
        </p:grpSpPr>
        <p:grpSp>
          <p:nvGrpSpPr>
            <p:cNvPr id="7213" name="Group 3"/>
            <p:cNvGrpSpPr/>
            <p:nvPr/>
          </p:nvGrpSpPr>
          <p:grpSpPr>
            <a:xfrm>
              <a:off x="0" y="115920"/>
              <a:ext cx="9140760" cy="6548400"/>
              <a:chOff x="0" y="115920"/>
              <a:chExt cx="9140760" cy="6548400"/>
            </a:xfrm>
          </p:grpSpPr>
          <p:sp>
            <p:nvSpPr>
              <p:cNvPr id="72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9"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ffffff"/>
              </a:solidFill>
              <a:latin typeface="Times New Roman"/>
            </a:endParaRPr>
          </a:p>
        </p:txBody>
      </p:sp>
      <p:grpSp>
        <p:nvGrpSpPr>
          <p:cNvPr id="7221" name="Group 2"/>
          <p:cNvGrpSpPr/>
          <p:nvPr/>
        </p:nvGrpSpPr>
        <p:grpSpPr>
          <a:xfrm>
            <a:off x="0" y="115920"/>
            <a:ext cx="9140760" cy="6548400"/>
            <a:chOff x="0" y="115920"/>
            <a:chExt cx="9140760" cy="6548400"/>
          </a:xfrm>
        </p:grpSpPr>
        <p:grpSp>
          <p:nvGrpSpPr>
            <p:cNvPr id="7222" name="Group 3"/>
            <p:cNvGrpSpPr/>
            <p:nvPr/>
          </p:nvGrpSpPr>
          <p:grpSpPr>
            <a:xfrm>
              <a:off x="0" y="115920"/>
              <a:ext cx="9140760" cy="6548400"/>
              <a:chOff x="0" y="115920"/>
              <a:chExt cx="9140760" cy="6548400"/>
            </a:xfrm>
          </p:grpSpPr>
          <p:sp>
            <p:nvSpPr>
              <p:cNvPr id="72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8"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ffffff"/>
              </a:solidFill>
              <a:latin typeface="Times New Roman"/>
            </a:endParaRPr>
          </a:p>
        </p:txBody>
      </p:sp>
      <p:grpSp>
        <p:nvGrpSpPr>
          <p:cNvPr id="7230" name="Group 2"/>
          <p:cNvGrpSpPr/>
          <p:nvPr/>
        </p:nvGrpSpPr>
        <p:grpSpPr>
          <a:xfrm>
            <a:off x="0" y="115920"/>
            <a:ext cx="9140760" cy="6548400"/>
            <a:chOff x="0" y="115920"/>
            <a:chExt cx="9140760" cy="6548400"/>
          </a:xfrm>
        </p:grpSpPr>
        <p:grpSp>
          <p:nvGrpSpPr>
            <p:cNvPr id="7231" name="Group 3"/>
            <p:cNvGrpSpPr/>
            <p:nvPr/>
          </p:nvGrpSpPr>
          <p:grpSpPr>
            <a:xfrm>
              <a:off x="0" y="115920"/>
              <a:ext cx="9140760" cy="6548400"/>
              <a:chOff x="0" y="115920"/>
              <a:chExt cx="9140760" cy="6548400"/>
            </a:xfrm>
          </p:grpSpPr>
          <p:sp>
            <p:nvSpPr>
              <p:cNvPr id="72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7"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ffffff"/>
              </a:solidFill>
              <a:latin typeface="Times New Roman"/>
            </a:endParaRPr>
          </a:p>
        </p:txBody>
      </p:sp>
      <p:grpSp>
        <p:nvGrpSpPr>
          <p:cNvPr id="7239" name="Group 2"/>
          <p:cNvGrpSpPr/>
          <p:nvPr/>
        </p:nvGrpSpPr>
        <p:grpSpPr>
          <a:xfrm>
            <a:off x="0" y="115920"/>
            <a:ext cx="9140760" cy="6548400"/>
            <a:chOff x="0" y="115920"/>
            <a:chExt cx="9140760" cy="6548400"/>
          </a:xfrm>
        </p:grpSpPr>
        <p:grpSp>
          <p:nvGrpSpPr>
            <p:cNvPr id="7240" name="Group 3"/>
            <p:cNvGrpSpPr/>
            <p:nvPr/>
          </p:nvGrpSpPr>
          <p:grpSpPr>
            <a:xfrm>
              <a:off x="0" y="115920"/>
              <a:ext cx="9140760" cy="6548400"/>
              <a:chOff x="0" y="115920"/>
              <a:chExt cx="9140760" cy="6548400"/>
            </a:xfrm>
          </p:grpSpPr>
          <p:sp>
            <p:nvSpPr>
              <p:cNvPr id="72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6"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ffffff"/>
              </a:solidFill>
              <a:latin typeface="Times New Roman"/>
            </a:endParaRPr>
          </a:p>
        </p:txBody>
      </p:sp>
      <p:grpSp>
        <p:nvGrpSpPr>
          <p:cNvPr id="7248" name="Group 2"/>
          <p:cNvGrpSpPr/>
          <p:nvPr/>
        </p:nvGrpSpPr>
        <p:grpSpPr>
          <a:xfrm>
            <a:off x="0" y="115920"/>
            <a:ext cx="9140760" cy="6548400"/>
            <a:chOff x="0" y="115920"/>
            <a:chExt cx="9140760" cy="6548400"/>
          </a:xfrm>
        </p:grpSpPr>
        <p:grpSp>
          <p:nvGrpSpPr>
            <p:cNvPr id="7249" name="Group 3"/>
            <p:cNvGrpSpPr/>
            <p:nvPr/>
          </p:nvGrpSpPr>
          <p:grpSpPr>
            <a:xfrm>
              <a:off x="0" y="115920"/>
              <a:ext cx="9140760" cy="6548400"/>
              <a:chOff x="0" y="115920"/>
              <a:chExt cx="9140760" cy="6548400"/>
            </a:xfrm>
          </p:grpSpPr>
          <p:sp>
            <p:nvSpPr>
              <p:cNvPr id="72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5"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ffffff"/>
              </a:solidFill>
              <a:latin typeface="Times New Roman"/>
            </a:endParaRPr>
          </a:p>
        </p:txBody>
      </p:sp>
      <p:grpSp>
        <p:nvGrpSpPr>
          <p:cNvPr id="7257" name="Group 2"/>
          <p:cNvGrpSpPr/>
          <p:nvPr/>
        </p:nvGrpSpPr>
        <p:grpSpPr>
          <a:xfrm>
            <a:off x="0" y="115920"/>
            <a:ext cx="9140760" cy="6548400"/>
            <a:chOff x="0" y="115920"/>
            <a:chExt cx="9140760" cy="6548400"/>
          </a:xfrm>
        </p:grpSpPr>
        <p:grpSp>
          <p:nvGrpSpPr>
            <p:cNvPr id="7258" name="Group 3"/>
            <p:cNvGrpSpPr/>
            <p:nvPr/>
          </p:nvGrpSpPr>
          <p:grpSpPr>
            <a:xfrm>
              <a:off x="0" y="115920"/>
              <a:ext cx="9140760" cy="6548400"/>
              <a:chOff x="0" y="115920"/>
              <a:chExt cx="9140760" cy="6548400"/>
            </a:xfrm>
          </p:grpSpPr>
          <p:sp>
            <p:nvSpPr>
              <p:cNvPr id="72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4"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ffffff"/>
              </a:solidFill>
              <a:latin typeface="Times New Roman"/>
            </a:endParaRPr>
          </a:p>
        </p:txBody>
      </p:sp>
      <p:grpSp>
        <p:nvGrpSpPr>
          <p:cNvPr id="7266" name="Group 2"/>
          <p:cNvGrpSpPr/>
          <p:nvPr/>
        </p:nvGrpSpPr>
        <p:grpSpPr>
          <a:xfrm>
            <a:off x="0" y="115920"/>
            <a:ext cx="9140760" cy="6548400"/>
            <a:chOff x="0" y="115920"/>
            <a:chExt cx="9140760" cy="6548400"/>
          </a:xfrm>
        </p:grpSpPr>
        <p:grpSp>
          <p:nvGrpSpPr>
            <p:cNvPr id="7267" name="Group 3"/>
            <p:cNvGrpSpPr/>
            <p:nvPr/>
          </p:nvGrpSpPr>
          <p:grpSpPr>
            <a:xfrm>
              <a:off x="0" y="115920"/>
              <a:ext cx="9140760" cy="6548400"/>
              <a:chOff x="0" y="115920"/>
              <a:chExt cx="9140760" cy="6548400"/>
            </a:xfrm>
          </p:grpSpPr>
          <p:sp>
            <p:nvSpPr>
              <p:cNvPr id="72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3" name="Picture 9"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ffffff"/>
              </a:solidFill>
              <a:latin typeface="Times New Roman"/>
            </a:endParaRPr>
          </a:p>
        </p:txBody>
      </p:sp>
      <p:grpSp>
        <p:nvGrpSpPr>
          <p:cNvPr id="7275" name="Group 2"/>
          <p:cNvGrpSpPr/>
          <p:nvPr/>
        </p:nvGrpSpPr>
        <p:grpSpPr>
          <a:xfrm>
            <a:off x="0" y="115920"/>
            <a:ext cx="9140760" cy="6548400"/>
            <a:chOff x="0" y="115920"/>
            <a:chExt cx="9140760" cy="6548400"/>
          </a:xfrm>
        </p:grpSpPr>
        <p:grpSp>
          <p:nvGrpSpPr>
            <p:cNvPr id="7276" name="Group 3"/>
            <p:cNvGrpSpPr/>
            <p:nvPr/>
          </p:nvGrpSpPr>
          <p:grpSpPr>
            <a:xfrm>
              <a:off x="0" y="115920"/>
              <a:ext cx="9140760" cy="6548400"/>
              <a:chOff x="0" y="115920"/>
              <a:chExt cx="9140760" cy="6548400"/>
            </a:xfrm>
          </p:grpSpPr>
          <p:sp>
            <p:nvSpPr>
              <p:cNvPr id="72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2:38Z</dcterms:modified>
  <cp:revision>1</cp:revision>
  <dc:subject/>
  <dc:title/>
</cp:coreProperties>
</file>